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177-064F-427E-A5C1-FB9FE30C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165-CEC6-4C61-864C-3392089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4F4-6DEF-4344-B6F9-B4F45917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F64-6F29-4709-9CC2-CC70743D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A77-EE67-48C4-9282-EF33C85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2C9-D099-44FF-92CA-7E0D537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295-B915-40DA-A028-E5BB323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A32-6064-4355-9B5C-80A17955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99B-EB3A-4B4B-BDC1-3AD99B97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440-F0C9-4F20-9B93-7B813B4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F9F-D71B-4E31-954A-66188D0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EE2-DE3D-46E1-9F26-852D463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305B-4C49-4EF5-90E1-87920801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685800"/>
            <a:ext cx="990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Nejlepších poloh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990720"/>
            <a:ext cx="6553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Čekali jste prasárničky, c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Vy zvrhlíci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74127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74137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74147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741a4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741b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741c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6094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A která j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33920" y="2971800"/>
            <a:ext cx="167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t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5029200"/>
            <a:ext cx="4038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nejlepší 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741d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14:59Z</dcterms:created>
  <dc:creator>FIRSTLOGON</dc:creator>
  <dc:description/>
  <dc:language>en-US</dc:language>
  <cp:lastModifiedBy>Kleňha</cp:lastModifiedBy>
  <dcterms:modified xsi:type="dcterms:W3CDTF">2004-10-02T15:07:49Z</dcterms:modified>
  <cp:revision>10</cp:revision>
  <dc:subject/>
  <dc:title>No Slide Title</dc:title>
</cp:coreProperties>
</file>