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1DE-F649-43B1-8C69-80B4CC56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7D1-FBE8-4B34-8FC7-38E9DFC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440-C611-4B7B-9CBE-F8ACE41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7DB-2FFC-46F8-ABA1-1424122F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EA4-C643-4792-AFAF-31D4D4C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FC9-FDCB-4B50-A813-95CFFF63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E93-F1ED-4DCA-8D4A-7F9C84F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FA7-D8CD-4688-8BDB-7C2D1062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2D2-968C-4D63-B11D-CB24791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302-6A6A-4810-B300-B563ECF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C9C-B14C-49F4-B50C-DB2868F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391-2D09-445C-82F3-F30A4AA0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414-DEB8-4325-9E6C-F5DBEF0B7A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2160" y="361800"/>
            <a:ext cx="7666200" cy="6162840"/>
            <a:chOff x="722160" y="361800"/>
            <a:chExt cx="7666200" cy="6162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19036" t="5799" r="19976" b="4279"/>
            <a:stretch/>
          </p:blipFill>
          <p:spPr>
            <a:xfrm>
              <a:off x="6851520" y="371520"/>
              <a:ext cx="1536840" cy="22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18656" t="5419" r="19976" b="4279"/>
            <a:stretch/>
          </p:blipFill>
          <p:spPr>
            <a:xfrm>
              <a:off x="722160" y="361800"/>
              <a:ext cx="1546200" cy="22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19976" t="5419" r="19976" b="4279"/>
            <a:stretch/>
          </p:blipFill>
          <p:spPr>
            <a:xfrm>
              <a:off x="755640" y="4249800"/>
              <a:ext cx="151272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18836" t="5599" r="19976" b="4279"/>
            <a:stretch/>
          </p:blipFill>
          <p:spPr>
            <a:xfrm>
              <a:off x="6846840" y="4254480"/>
              <a:ext cx="1541520" cy="22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Ferra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7777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Chlapec přijde k otci a ptá se h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Tati, Ferrari je takové červené auto s koněm?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On odpov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Ano, můj synu, je!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„</a:t>
            </a:r>
            <a:r>
              <a:rPr b="0" lang="cs-CZ" sz="4000" spc="-1" strike="noStrike">
                <a:solidFill>
                  <a:srgbClr val="ffff00"/>
                </a:solidFill>
                <a:latin typeface="Arial Black"/>
              </a:rPr>
              <a:t>Tak jsem ho ráno viděl…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080" y="174600"/>
            <a:ext cx="8675640" cy="650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9760" y="179280"/>
            <a:ext cx="8666280" cy="649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6:37:51Z</dcterms:created>
  <dc:creator>Šalandová Blanka</dc:creator>
  <dc:description/>
  <dc:language>en-US</dc:language>
  <cp:lastModifiedBy>Šalandová Blanka</cp:lastModifiedBy>
  <dcterms:modified xsi:type="dcterms:W3CDTF">2004-05-20T10:35:56Z</dcterms:modified>
  <cp:revision>7</cp:revision>
  <dc:subject/>
  <dc:title>Ferrari</dc:title>
</cp:coreProperties>
</file>