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533-A09A-4E21-BA3C-242DA83B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CFA-963F-4D8B-99CC-11954FCB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D99-24BB-4D66-83C3-D04B7133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AAD-1815-4402-9E6C-26491161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BFB-D9D9-4729-B8DC-CCFF7CE5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9AF-FD38-4A40-93F8-79A34C24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E51-4602-4D95-8AD4-4A788EC5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647-218F-4683-BBF9-B484A01D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892-A2B3-492F-8BB5-23F91A7C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7B0-3ED9-4B91-9BD3-7AEA382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62E-3FD3-43FF-839F-D729613D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E1D-01A7-449D-9310-3D1DA78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777F-B810-43A7-BE8B-049DF3BC4B1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22160" y="361800"/>
            <a:ext cx="7666200" cy="6162840"/>
            <a:chOff x="722160" y="361800"/>
            <a:chExt cx="7666200" cy="61628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19036" t="5799" r="19976" b="4279"/>
            <a:stretch/>
          </p:blipFill>
          <p:spPr>
            <a:xfrm>
              <a:off x="6851520" y="371520"/>
              <a:ext cx="1536840" cy="22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18656" t="5419" r="19976" b="4279"/>
            <a:stretch/>
          </p:blipFill>
          <p:spPr>
            <a:xfrm>
              <a:off x="722160" y="361800"/>
              <a:ext cx="1546200" cy="22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19976" t="5419" r="19976" b="4279"/>
            <a:stretch/>
          </p:blipFill>
          <p:spPr>
            <a:xfrm>
              <a:off x="755640" y="4249800"/>
              <a:ext cx="1512720" cy="22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rcRect l="18836" t="5599" r="19976" b="4279"/>
            <a:stretch/>
          </p:blipFill>
          <p:spPr>
            <a:xfrm>
              <a:off x="6846840" y="4254480"/>
              <a:ext cx="1541520" cy="22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Ferra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5280" y="981000"/>
            <a:ext cx="7777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Chlapec přijde k otci a ptá se h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„</a:t>
            </a: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Tati, Ferrari je takové červené auto s koněm?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On odpov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„</a:t>
            </a: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Ano, můj synu, je!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„</a:t>
            </a: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Tak jsem ho ráno viděl…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5080" y="174600"/>
            <a:ext cx="8675640" cy="650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9760" y="179280"/>
            <a:ext cx="8666280" cy="649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6:37:51Z</dcterms:created>
  <dc:creator>Šalandová Blanka</dc:creator>
  <dc:description/>
  <dc:language>en-US</dc:language>
  <cp:lastModifiedBy>Šalandová Blanka</cp:lastModifiedBy>
  <dcterms:modified xsi:type="dcterms:W3CDTF">2004-05-20T10:35:56Z</dcterms:modified>
  <cp:revision>7</cp:revision>
  <dc:subject/>
  <dc:title>Ferrari</dc:title>
</cp:coreProperties>
</file>