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1D2-4623-444C-B9A7-05AABE00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92F-649C-44CE-B6B5-66E8A907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03C-538F-469F-9767-2B7A98C3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5E8-1E8B-4C4F-868E-0E4E11E8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CC6-FB59-4BED-B76E-410B9282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508-212F-4766-92BB-1C0CE93B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123-F18F-44CE-8DCA-C7B9E524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044-7AA9-4AC6-9485-0E94E056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C18-553C-461E-AD8E-E7E10806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3F4-5992-4380-9086-39D601B9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06A-BD02-4942-A695-0F3CDA57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9DD-E946-4FDF-AB03-BB3B1E69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4663-3035-4478-9550-F2CED7632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205000"/>
            <a:ext cx="568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ěco Ti vadí? Máš nějaký problém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192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Rozhlédni se okolo sebe</a:t>
            </a: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a děkuj za všechno co máš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1360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Máme štěstí, máme víc než potřebujeme, abychom byli štastní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39920" y="324648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vi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8428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Pošli to dál. At se i ostatní zamysl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nad tím, co je opravdu důležité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16000" y="1413000"/>
            <a:ext cx="674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ffffff"/>
                </a:solidFill>
                <a:latin typeface="Arial"/>
              </a:rPr>
              <a:t>Přestanme si stěžovat a pomáhejme ostatním</a:t>
            </a:r>
            <a:r>
              <a:rPr b="1" i="1" lang="es-MX" sz="60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i="1" lang="es-E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xit" presetID="40">
                                  <p:stCondLst>
                                    <p:cond delay="1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73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472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Nerad chodíš do školy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52360" y="472428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Oni chodí rádi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73560" y="2781360"/>
            <a:ext cx="5770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2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22560" y="2533680"/>
            <a:ext cx="612144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Nerad ovoce a zeleninu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41720"/>
            <a:ext cx="3384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Oni si nevybírají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08400" cy="630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208760" cy="630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Jsi na dietě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Oni na ni umírají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Vadí Ti, že tvoji rodiče se ti pletou do života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08464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Oni nemají rodiče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148360" cy="363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26080" y="0"/>
            <a:ext cx="4417920" cy="602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Nudí Tě pořád stejné hry a hračky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538812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Oni nemají na výběr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810240" cy="44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3336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Koupili Ti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 Adidas </a:t>
            </a: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a ty jsi chtěl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 Nik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8560" y="333360"/>
            <a:ext cx="41054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Tady mají jen jednu značku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94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92360" y="2865600"/>
            <a:ext cx="5651640" cy="3992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43280" y="76500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Vadí ti, že musíš v 8 večer spát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581360"/>
            <a:ext cx="3024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Oni se nechtějí probudit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O TE QUEJ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205000"/>
            <a:ext cx="5400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ště si myslíš, že máš plno starostí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3:26:55Z</dcterms:created>
  <dc:creator>Liza Ruchman</dc:creator>
  <dc:description/>
  <dc:language>en-US</dc:language>
  <cp:lastModifiedBy>Jolana</cp:lastModifiedBy>
  <dcterms:modified xsi:type="dcterms:W3CDTF">2006-01-16T20:24:13Z</dcterms:modified>
  <cp:revision>15</cp:revision>
  <dc:subject/>
  <dc:title>ALGO TE MOLESTA?</dc:title>
</cp:coreProperties>
</file>