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9DB-29A0-471A-8923-239A17D1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5FD-FEAD-4379-B76C-64A43289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2BD-4A4E-4C9C-9A68-6207AF1F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2C9-7273-4070-AB34-69C94493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5A1-D44D-4D96-AB6A-0FB8C6B3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EE5-6350-4B19-98F1-DC47B2D4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B4F-6C59-44E5-BC38-E10C9A28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212-B52B-4759-8ED1-363D4A77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EC5-505B-4CFF-A82D-82EF17F6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8D9-5084-4A1C-8C80-ACFB801A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FD5-BC11-4FFB-925D-FE8571E0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79D-A8E5-42E2-BAA4-C9F8B8C9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4990-634A-4FF6-8F99-A53C801E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205000"/>
            <a:ext cx="568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ěco Ti vadí? Máš nějaký problém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192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Rozhlédni se okolo sebe</a:t>
            </a: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a děkuj za všechno co máš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1360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Máme štěstí, máme víc než potřebujeme, abychom byli štastní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39920" y="324648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i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8428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Pošli to dál. At se i ostatní zamysl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nad tím, co je opravdu důležité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6000" y="1413000"/>
            <a:ext cx="674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ffffff"/>
                </a:solidFill>
                <a:latin typeface="Arial"/>
              </a:rPr>
              <a:t>Přestanme si stěžovat a pomáhejme ostatním</a:t>
            </a: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i="1" lang="es-E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472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Nerad chodíš do školy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52360" y="472428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chodí rádi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2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22560" y="2533680"/>
            <a:ext cx="612144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Nerad ovoce a zeleninu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41720"/>
            <a:ext cx="3384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si nevybírají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08400" cy="63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08760" cy="630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Jsi na dietě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na ni umírají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Vadí Ti, že tvoji rodiče se ti pletou do života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084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nemají rodiče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Nudí Tě pořád stejné hry a hračky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38812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nemají na výběr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Koupili Ti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Adidas </a:t>
            </a: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a ty jsi chtěl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Nik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Tady mají jen jednu značku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92360" y="2865600"/>
            <a:ext cx="5651640" cy="3992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76500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Vadí ti, že musíš v 8 večer spát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581360"/>
            <a:ext cx="3024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Oni se nechtějí probudit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 QUEJ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205000"/>
            <a:ext cx="5400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ště si myslíš, že máš plno starostí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Liza Ruchman</dc:creator>
  <dc:description/>
  <dc:language>en-US</dc:language>
  <cp:lastModifiedBy>Jolana</cp:lastModifiedBy>
  <dcterms:modified xsi:type="dcterms:W3CDTF">2006-01-16T20:24:13Z</dcterms:modified>
  <cp:revision>15</cp:revision>
  <dc:subject/>
  <dc:title>ALGO TE MOLESTA?</dc:title>
</cp:coreProperties>
</file>