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C3C4-A121-4B25-8F63-77ACE457D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61AB-63F5-433E-A545-56F0FCC6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2D4E-DB9C-41A7-AA57-709C6B92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0025-577E-4A9D-8F3A-337AD635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3540-888E-4AF7-B310-5A38746C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9538-7FC9-43F9-B48A-9C267F17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9584-E938-4DC4-AE63-05D7B907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072D-8F81-4602-8C28-0FF75722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2434-1629-47A7-ACAF-DCC5BAC3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242A-F56F-443A-8667-F8B63B3A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1AB2-D369-498C-90C7-FFB95971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9BB8-561A-4921-B893-2AB0CA66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E47D-E21A-4197-A242-5DC99CDC9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2.jpeg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2.jpeg"/><Relationship Id="rId8" Type="http://schemas.openxmlformats.org/officeDocument/2006/relationships/slide" Target="slide4.xml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2767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9900"/>
                </a:solidFill>
                <a:latin typeface="Times New Roman"/>
              </a:rPr>
              <a:t>Proč je med tak pěkně zlatavě žlutý?</a:t>
            </a:r>
            <a:r>
              <a:rPr b="1" lang="de-CH" sz="3600" spc="-1" strike="noStrike">
                <a:solidFill>
                  <a:srgbClr val="cc9900"/>
                </a:solidFill>
                <a:latin typeface="Papyrus"/>
                <a:ea typeface="Times New Roman"/>
              </a:rPr>
              <a:t> 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90720" y="2057400"/>
            <a:ext cx="815328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cc9900"/>
                </a:solidFill>
                <a:latin typeface="Arial Unicode MS"/>
                <a:ea typeface="Times New Roman"/>
              </a:rPr>
              <a:t> </a:t>
            </a:r>
            <a:r>
              <a:rPr b="0" lang="cs-CZ" sz="3200" spc="-1" strike="noStrike">
                <a:solidFill>
                  <a:srgbClr val="cc9900"/>
                </a:solidFill>
                <a:latin typeface="Arial Unicode MS"/>
              </a:rPr>
              <a:t>kvůli slunci , které svíti na květy</a:t>
            </a:r>
            <a:r>
              <a:rPr b="0" lang="cs-CZ" sz="3600" spc="-1" strike="noStrike">
                <a:solidFill>
                  <a:srgbClr val="cc9900"/>
                </a:solidFill>
                <a:latin typeface="Arial Unicode MS"/>
              </a:rPr>
              <a:t> </a:t>
            </a:r>
            <a:r>
              <a:rPr b="0" lang="de-CH" sz="3600" spc="-1" strike="noStrike">
                <a:solidFill>
                  <a:srgbClr val="cc9900"/>
                </a:solidFill>
                <a:latin typeface="Arial Unicode MS"/>
                <a:ea typeface="Times New Roman"/>
              </a:rPr>
              <a:t> 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cc9900"/>
                </a:solidFill>
                <a:latin typeface="Papyrus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cc9900"/>
                </a:solidFill>
                <a:latin typeface="Arial Unicode MS"/>
              </a:rPr>
              <a:t>kvůli py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cc9900"/>
                </a:solidFill>
                <a:latin typeface="Papyrus"/>
                <a:ea typeface="Times New Roman"/>
              </a:rPr>
              <a:t> 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cc9900"/>
                </a:solidFill>
                <a:latin typeface="Papyrus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cc9900"/>
                </a:solidFill>
                <a:latin typeface="Arial Unicode MS"/>
              </a:rPr>
              <a:t>med není žlut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304920" y="2133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9900"/>
                </a:solidFill>
                <a:latin typeface="Papyrus"/>
              </a:rPr>
              <a:t>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304920" y="3276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9900"/>
                </a:solidFill>
                <a:latin typeface="Papyrus"/>
              </a:rPr>
              <a:t>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304920" y="47242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9900"/>
                </a:solidFill>
                <a:latin typeface="Papyrus"/>
              </a:rPr>
              <a:t>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8" action="ppaction://hlinksldjump"/>
          </p:cNvPr>
          <p:cNvSpPr/>
          <p:nvPr/>
        </p:nvSpPr>
        <p:spPr>
          <a:xfrm>
            <a:off x="3733920" y="6095880"/>
            <a:ext cx="2133360" cy="533520"/>
          </a:xfrm>
          <a:custGeom>
            <a:avLst/>
            <a:gdLst>
              <a:gd name="textAreaLeft" fmla="*/ 34560 w 2133360"/>
              <a:gd name="textAreaRight" fmla="*/ 2098800 w 21333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6327" h="21600">
                <a:moveTo>
                  <a:pt x="0" y="0"/>
                </a:moveTo>
                <a:lnTo>
                  <a:pt x="86327" y="0"/>
                </a:lnTo>
                <a:lnTo>
                  <a:pt x="86327" y="21600"/>
                </a:lnTo>
                <a:lnTo>
                  <a:pt x="0" y="21600"/>
                </a:lnTo>
                <a:close/>
              </a:path>
              <a:path fill="lightenLess" w="86327" h="21600">
                <a:moveTo>
                  <a:pt x="0" y="0"/>
                </a:moveTo>
                <a:lnTo>
                  <a:pt x="86327" y="0"/>
                </a:lnTo>
                <a:lnTo>
                  <a:pt x="84927" y="1400"/>
                </a:lnTo>
                <a:lnTo>
                  <a:pt x="1400" y="1400"/>
                </a:lnTo>
                <a:close/>
              </a:path>
              <a:path fill="darken" w="86327" h="21600">
                <a:moveTo>
                  <a:pt x="86327" y="0"/>
                </a:moveTo>
                <a:lnTo>
                  <a:pt x="86327" y="21600"/>
                </a:lnTo>
                <a:lnTo>
                  <a:pt x="84927" y="20200"/>
                </a:lnTo>
                <a:lnTo>
                  <a:pt x="84927" y="1400"/>
                </a:lnTo>
                <a:close/>
              </a:path>
              <a:path fill="darkenLess" w="86327" h="21600">
                <a:moveTo>
                  <a:pt x="863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27" y="20200"/>
                </a:lnTo>
                <a:close/>
              </a:path>
              <a:path fill="lighten" w="863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9900"/>
                </a:solidFill>
                <a:latin typeface="Papyrus"/>
              </a:rPr>
              <a:t>Vysvětl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7920" y="2514600"/>
            <a:ext cx="6248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cc9900"/>
                </a:solidFill>
                <a:latin typeface="Papyrus"/>
              </a:rPr>
              <a:t>Špatně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3429000" y="4572000"/>
            <a:ext cx="2133720" cy="533520"/>
          </a:xfrm>
          <a:custGeom>
            <a:avLst/>
            <a:gdLst>
              <a:gd name="textAreaLeft" fmla="*/ 34560 w 2133720"/>
              <a:gd name="textAreaRight" fmla="*/ 2099160 w 2133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6342" h="21600">
                <a:moveTo>
                  <a:pt x="0" y="0"/>
                </a:moveTo>
                <a:lnTo>
                  <a:pt x="86342" y="0"/>
                </a:lnTo>
                <a:lnTo>
                  <a:pt x="86342" y="21600"/>
                </a:lnTo>
                <a:lnTo>
                  <a:pt x="0" y="21600"/>
                </a:lnTo>
                <a:close/>
              </a:path>
              <a:path fill="lightenLess" w="86342" h="21600">
                <a:moveTo>
                  <a:pt x="0" y="0"/>
                </a:moveTo>
                <a:lnTo>
                  <a:pt x="86342" y="0"/>
                </a:lnTo>
                <a:lnTo>
                  <a:pt x="84942" y="1400"/>
                </a:lnTo>
                <a:lnTo>
                  <a:pt x="1400" y="1400"/>
                </a:lnTo>
                <a:close/>
              </a:path>
              <a:path fill="darken" w="86342" h="21600">
                <a:moveTo>
                  <a:pt x="86342" y="0"/>
                </a:moveTo>
                <a:lnTo>
                  <a:pt x="86342" y="21600"/>
                </a:lnTo>
                <a:lnTo>
                  <a:pt x="84942" y="20200"/>
                </a:lnTo>
                <a:lnTo>
                  <a:pt x="84942" y="1400"/>
                </a:lnTo>
                <a:close/>
              </a:path>
              <a:path fill="darkenLess" w="86342" h="21600">
                <a:moveTo>
                  <a:pt x="86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42" y="20200"/>
                </a:lnTo>
                <a:close/>
              </a:path>
              <a:path fill="lighten" w="86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9900"/>
                </a:solidFill>
                <a:latin typeface="Papyrus"/>
              </a:rPr>
              <a:t>Zpě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1280" y="685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9900"/>
                </a:solidFill>
                <a:latin typeface="Papyrus"/>
              </a:rPr>
              <a:t>Pro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bee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33540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6:24:07Z</dcterms:created>
  <dc:creator>Hugo Altenburger</dc:creator>
  <dc:description/>
  <dc:language>en-US</dc:language>
  <cp:lastModifiedBy>tjqs36</cp:lastModifiedBy>
  <dcterms:modified xsi:type="dcterms:W3CDTF">2004-01-21T07:27:30Z</dcterms:modified>
  <cp:revision>3</cp:revision>
  <dc:subject/>
  <dc:title>PowerPoint-Präsentation</dc:title>
</cp:coreProperties>
</file>