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ission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981-D34F-4FAD-9731-0D43615F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7CC-1E62-4796-99BE-FAF83ED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4E2-82E1-4082-8724-ABC5B0C4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F42-8FA0-4B1D-8904-17886795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076-A0EB-4F16-B0F8-B4EB580B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E7E-75F8-4E0F-933F-674ABAA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6EE-03F9-4C07-93DF-5BF7F9E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CBF-4D2F-4093-9127-DA57154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6DA-737B-4469-818E-85E6E7B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BAC-91FD-4876-9E8E-75C8CB1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5DD-6BA3-4EBA-990A-A2B75DE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F79-B039-4C2D-A8C0-855A654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428-3B95-4CBC-9AFD-04D746BF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ission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840" y="388800"/>
            <a:ext cx="56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Zadání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„</a:t>
            </a: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Jděte do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 H&amp;M </a:t>
            </a: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a kupte jedny kalhoty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1905120"/>
            <a:ext cx="8153640" cy="4343400"/>
            <a:chOff x="609480" y="1905120"/>
            <a:chExt cx="8153640" cy="4343400"/>
          </a:xfrm>
        </p:grpSpPr>
        <p:sp>
          <p:nvSpPr>
            <p:cNvPr id="45" name=""/>
            <p:cNvSpPr/>
            <p:nvPr/>
          </p:nvSpPr>
          <p:spPr>
            <a:xfrm>
              <a:off x="1905120" y="2286000"/>
              <a:ext cx="5715000" cy="3124080"/>
            </a:xfrm>
            <a:custGeom>
              <a:avLst/>
              <a:gdLst/>
              <a:ahLst/>
              <a:rect l="l" t="t" r="r" b="b"/>
              <a:pathLst>
                <a:path w="3600" h="1968">
                  <a:moveTo>
                    <a:pt x="0" y="144"/>
                  </a:moveTo>
                  <a:lnTo>
                    <a:pt x="1296" y="0"/>
                  </a:lnTo>
                  <a:lnTo>
                    <a:pt x="2208" y="0"/>
                  </a:lnTo>
                  <a:lnTo>
                    <a:pt x="3600" y="336"/>
                  </a:lnTo>
                  <a:lnTo>
                    <a:pt x="3600" y="1056"/>
                  </a:lnTo>
                  <a:lnTo>
                    <a:pt x="2304" y="1056"/>
                  </a:lnTo>
                  <a:lnTo>
                    <a:pt x="2304" y="1968"/>
                  </a:lnTo>
                  <a:lnTo>
                    <a:pt x="1152" y="1968"/>
                  </a:lnTo>
                  <a:lnTo>
                    <a:pt x="1152" y="1056"/>
                  </a:lnTo>
                  <a:lnTo>
                    <a:pt x="0" y="10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190512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7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 MT Black"/>
                </a:rPr>
                <a:t>H&amp;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95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315200" y="213336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6934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6552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61722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5791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5409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6934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6552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61722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5791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5409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48640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48640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50532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350532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4952880"/>
              <a:ext cx="3429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074120" y="12636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6240" y="126360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600200"/>
            <a:ext cx="838080" cy="1447920"/>
          </a:xfrm>
          <a:custGeom>
            <a:avLst/>
            <a:gdLst/>
            <a:ahLst/>
            <a:rect l="l" t="t" r="r" b="b"/>
            <a:pathLst>
              <a:path w="528" h="912">
                <a:moveTo>
                  <a:pt x="528" y="0"/>
                </a:moveTo>
                <a:lnTo>
                  <a:pt x="528" y="912"/>
                </a:lnTo>
                <a:lnTo>
                  <a:pt x="0" y="912"/>
                </a:lnTo>
                <a:lnTo>
                  <a:pt x="0" y="72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1600200"/>
            <a:ext cx="5486400" cy="4495680"/>
          </a:xfrm>
          <a:custGeom>
            <a:avLst/>
            <a:gdLst/>
            <a:ahLst/>
            <a:rect l="l" t="t" r="r" b="b"/>
            <a:pathLst>
              <a:path w="3456" h="2832">
                <a:moveTo>
                  <a:pt x="1056" y="0"/>
                </a:moveTo>
                <a:lnTo>
                  <a:pt x="1056" y="912"/>
                </a:lnTo>
                <a:lnTo>
                  <a:pt x="1536" y="912"/>
                </a:lnTo>
                <a:lnTo>
                  <a:pt x="1536" y="528"/>
                </a:lnTo>
                <a:lnTo>
                  <a:pt x="1632" y="528"/>
                </a:lnTo>
                <a:lnTo>
                  <a:pt x="1632" y="864"/>
                </a:lnTo>
                <a:lnTo>
                  <a:pt x="1776" y="864"/>
                </a:lnTo>
                <a:lnTo>
                  <a:pt x="1776" y="672"/>
                </a:lnTo>
                <a:lnTo>
                  <a:pt x="1728" y="672"/>
                </a:lnTo>
                <a:lnTo>
                  <a:pt x="1728" y="528"/>
                </a:lnTo>
                <a:lnTo>
                  <a:pt x="1872" y="528"/>
                </a:lnTo>
                <a:lnTo>
                  <a:pt x="1872" y="816"/>
                </a:lnTo>
                <a:lnTo>
                  <a:pt x="2016" y="816"/>
                </a:lnTo>
                <a:lnTo>
                  <a:pt x="2016" y="720"/>
                </a:lnTo>
                <a:lnTo>
                  <a:pt x="2016" y="672"/>
                </a:lnTo>
                <a:lnTo>
                  <a:pt x="2112" y="672"/>
                </a:lnTo>
                <a:lnTo>
                  <a:pt x="2112" y="816"/>
                </a:lnTo>
                <a:lnTo>
                  <a:pt x="2208" y="816"/>
                </a:lnTo>
                <a:lnTo>
                  <a:pt x="2208" y="480"/>
                </a:lnTo>
                <a:lnTo>
                  <a:pt x="2352" y="480"/>
                </a:lnTo>
                <a:lnTo>
                  <a:pt x="2352" y="720"/>
                </a:lnTo>
                <a:lnTo>
                  <a:pt x="2304" y="720"/>
                </a:lnTo>
                <a:lnTo>
                  <a:pt x="2304" y="816"/>
                </a:lnTo>
                <a:lnTo>
                  <a:pt x="2496" y="816"/>
                </a:lnTo>
                <a:lnTo>
                  <a:pt x="2496" y="480"/>
                </a:lnTo>
                <a:lnTo>
                  <a:pt x="2544" y="480"/>
                </a:lnTo>
                <a:lnTo>
                  <a:pt x="2544" y="864"/>
                </a:lnTo>
                <a:lnTo>
                  <a:pt x="2736" y="864"/>
                </a:lnTo>
                <a:lnTo>
                  <a:pt x="2736" y="432"/>
                </a:lnTo>
                <a:lnTo>
                  <a:pt x="2832" y="432"/>
                </a:lnTo>
                <a:lnTo>
                  <a:pt x="2832" y="912"/>
                </a:lnTo>
                <a:lnTo>
                  <a:pt x="2880" y="912"/>
                </a:lnTo>
                <a:lnTo>
                  <a:pt x="2880" y="576"/>
                </a:lnTo>
                <a:lnTo>
                  <a:pt x="3168" y="576"/>
                </a:lnTo>
                <a:lnTo>
                  <a:pt x="3168" y="768"/>
                </a:lnTo>
                <a:lnTo>
                  <a:pt x="3312" y="768"/>
                </a:lnTo>
                <a:lnTo>
                  <a:pt x="3312" y="912"/>
                </a:lnTo>
                <a:lnTo>
                  <a:pt x="2976" y="912"/>
                </a:lnTo>
                <a:lnTo>
                  <a:pt x="2976" y="1056"/>
                </a:lnTo>
                <a:lnTo>
                  <a:pt x="3456" y="1056"/>
                </a:lnTo>
                <a:lnTo>
                  <a:pt x="3456" y="1728"/>
                </a:lnTo>
                <a:lnTo>
                  <a:pt x="3168" y="1728"/>
                </a:lnTo>
                <a:lnTo>
                  <a:pt x="3168" y="1488"/>
                </a:lnTo>
                <a:lnTo>
                  <a:pt x="3312" y="1488"/>
                </a:lnTo>
                <a:lnTo>
                  <a:pt x="3312" y="1296"/>
                </a:lnTo>
                <a:lnTo>
                  <a:pt x="3024" y="1248"/>
                </a:lnTo>
                <a:lnTo>
                  <a:pt x="3024" y="1536"/>
                </a:lnTo>
                <a:lnTo>
                  <a:pt x="2880" y="1536"/>
                </a:lnTo>
                <a:lnTo>
                  <a:pt x="2880" y="1248"/>
                </a:lnTo>
                <a:lnTo>
                  <a:pt x="2592" y="1248"/>
                </a:lnTo>
                <a:lnTo>
                  <a:pt x="2592" y="1536"/>
                </a:lnTo>
                <a:lnTo>
                  <a:pt x="2544" y="1536"/>
                </a:lnTo>
                <a:lnTo>
                  <a:pt x="2544" y="1200"/>
                </a:lnTo>
                <a:lnTo>
                  <a:pt x="2400" y="1200"/>
                </a:lnTo>
                <a:lnTo>
                  <a:pt x="2256" y="1008"/>
                </a:lnTo>
                <a:lnTo>
                  <a:pt x="2400" y="1008"/>
                </a:lnTo>
                <a:lnTo>
                  <a:pt x="2400" y="912"/>
                </a:lnTo>
                <a:lnTo>
                  <a:pt x="2208" y="912"/>
                </a:lnTo>
                <a:lnTo>
                  <a:pt x="2208" y="1536"/>
                </a:lnTo>
                <a:lnTo>
                  <a:pt x="2352" y="1536"/>
                </a:lnTo>
                <a:lnTo>
                  <a:pt x="2352" y="1584"/>
                </a:lnTo>
                <a:lnTo>
                  <a:pt x="2160" y="1584"/>
                </a:lnTo>
                <a:lnTo>
                  <a:pt x="2160" y="1200"/>
                </a:lnTo>
                <a:lnTo>
                  <a:pt x="2064" y="1248"/>
                </a:lnTo>
                <a:lnTo>
                  <a:pt x="2064" y="1488"/>
                </a:lnTo>
                <a:lnTo>
                  <a:pt x="2016" y="1488"/>
                </a:lnTo>
                <a:lnTo>
                  <a:pt x="2016" y="1152"/>
                </a:lnTo>
                <a:lnTo>
                  <a:pt x="1824" y="1152"/>
                </a:lnTo>
                <a:lnTo>
                  <a:pt x="1824" y="1584"/>
                </a:lnTo>
                <a:lnTo>
                  <a:pt x="1728" y="1392"/>
                </a:lnTo>
                <a:lnTo>
                  <a:pt x="1728" y="1008"/>
                </a:lnTo>
                <a:lnTo>
                  <a:pt x="1680" y="1008"/>
                </a:lnTo>
                <a:lnTo>
                  <a:pt x="1584" y="1152"/>
                </a:lnTo>
                <a:lnTo>
                  <a:pt x="1584" y="1440"/>
                </a:lnTo>
                <a:lnTo>
                  <a:pt x="1392" y="1440"/>
                </a:lnTo>
                <a:lnTo>
                  <a:pt x="1392" y="1728"/>
                </a:lnTo>
                <a:lnTo>
                  <a:pt x="1680" y="1728"/>
                </a:lnTo>
                <a:lnTo>
                  <a:pt x="1680" y="1824"/>
                </a:lnTo>
                <a:lnTo>
                  <a:pt x="1200" y="1824"/>
                </a:lnTo>
                <a:lnTo>
                  <a:pt x="1200" y="1872"/>
                </a:lnTo>
                <a:lnTo>
                  <a:pt x="1392" y="1920"/>
                </a:lnTo>
                <a:lnTo>
                  <a:pt x="1584" y="1920"/>
                </a:lnTo>
                <a:lnTo>
                  <a:pt x="1584" y="2016"/>
                </a:lnTo>
                <a:lnTo>
                  <a:pt x="1344" y="2016"/>
                </a:lnTo>
                <a:lnTo>
                  <a:pt x="1344" y="2208"/>
                </a:lnTo>
                <a:lnTo>
                  <a:pt x="1920" y="2208"/>
                </a:lnTo>
                <a:lnTo>
                  <a:pt x="1920" y="2784"/>
                </a:lnTo>
                <a:lnTo>
                  <a:pt x="1728" y="2784"/>
                </a:lnTo>
                <a:lnTo>
                  <a:pt x="1728" y="2352"/>
                </a:lnTo>
                <a:lnTo>
                  <a:pt x="1536" y="2352"/>
                </a:lnTo>
                <a:lnTo>
                  <a:pt x="1536" y="2736"/>
                </a:lnTo>
                <a:lnTo>
                  <a:pt x="1392" y="2736"/>
                </a:lnTo>
                <a:lnTo>
                  <a:pt x="1392" y="2352"/>
                </a:lnTo>
                <a:lnTo>
                  <a:pt x="1248" y="2352"/>
                </a:lnTo>
                <a:lnTo>
                  <a:pt x="1248" y="2832"/>
                </a:lnTo>
                <a:lnTo>
                  <a:pt x="1104" y="2832"/>
                </a:lnTo>
                <a:lnTo>
                  <a:pt x="1104" y="2256"/>
                </a:lnTo>
                <a:lnTo>
                  <a:pt x="960" y="2256"/>
                </a:lnTo>
                <a:lnTo>
                  <a:pt x="960" y="2736"/>
                </a:lnTo>
                <a:lnTo>
                  <a:pt x="816" y="2736"/>
                </a:lnTo>
                <a:lnTo>
                  <a:pt x="816" y="2208"/>
                </a:lnTo>
                <a:lnTo>
                  <a:pt x="624" y="2208"/>
                </a:lnTo>
                <a:lnTo>
                  <a:pt x="624" y="2832"/>
                </a:lnTo>
                <a:lnTo>
                  <a:pt x="432" y="2832"/>
                </a:lnTo>
                <a:lnTo>
                  <a:pt x="432" y="2544"/>
                </a:lnTo>
                <a:lnTo>
                  <a:pt x="336" y="2544"/>
                </a:lnTo>
                <a:lnTo>
                  <a:pt x="336" y="2784"/>
                </a:lnTo>
                <a:lnTo>
                  <a:pt x="192" y="2784"/>
                </a:lnTo>
                <a:cubicBezTo>
                  <a:pt x="206" y="2288"/>
                  <a:pt x="309" y="2448"/>
                  <a:pt x="147" y="2448"/>
                </a:cubicBezTo>
                <a:lnTo>
                  <a:pt x="96" y="2736"/>
                </a:lnTo>
                <a:lnTo>
                  <a:pt x="0" y="2736"/>
                </a:lnTo>
                <a:lnTo>
                  <a:pt x="0" y="2352"/>
                </a:lnTo>
                <a:lnTo>
                  <a:pt x="480" y="2352"/>
                </a:lnTo>
                <a:lnTo>
                  <a:pt x="480" y="2208"/>
                </a:lnTo>
                <a:lnTo>
                  <a:pt x="576" y="2208"/>
                </a:lnTo>
                <a:lnTo>
                  <a:pt x="576" y="2064"/>
                </a:lnTo>
                <a:lnTo>
                  <a:pt x="336" y="2064"/>
                </a:lnTo>
                <a:lnTo>
                  <a:pt x="336" y="1968"/>
                </a:lnTo>
                <a:lnTo>
                  <a:pt x="672" y="1968"/>
                </a:lnTo>
                <a:lnTo>
                  <a:pt x="672" y="1776"/>
                </a:lnTo>
                <a:lnTo>
                  <a:pt x="432" y="177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362320"/>
            <a:ext cx="3276360" cy="1981080"/>
          </a:xfrm>
          <a:custGeom>
            <a:avLst/>
            <a:gdLst/>
            <a:ahLst/>
            <a:rect l="l" t="t" r="r" b="b"/>
            <a:pathLst>
              <a:path w="2064" h="1248">
                <a:moveTo>
                  <a:pt x="1728" y="1248"/>
                </a:moveTo>
                <a:lnTo>
                  <a:pt x="2064" y="1248"/>
                </a:lnTo>
                <a:lnTo>
                  <a:pt x="2064" y="1008"/>
                </a:lnTo>
                <a:lnTo>
                  <a:pt x="1776" y="1008"/>
                </a:lnTo>
                <a:lnTo>
                  <a:pt x="1776" y="720"/>
                </a:lnTo>
                <a:lnTo>
                  <a:pt x="1488" y="720"/>
                </a:lnTo>
                <a:lnTo>
                  <a:pt x="1488" y="1056"/>
                </a:lnTo>
                <a:lnTo>
                  <a:pt x="1440" y="1056"/>
                </a:lnTo>
                <a:lnTo>
                  <a:pt x="1440" y="672"/>
                </a:lnTo>
                <a:lnTo>
                  <a:pt x="1296" y="672"/>
                </a:lnTo>
                <a:lnTo>
                  <a:pt x="1296" y="960"/>
                </a:lnTo>
                <a:lnTo>
                  <a:pt x="1200" y="960"/>
                </a:lnTo>
                <a:lnTo>
                  <a:pt x="1200" y="672"/>
                </a:lnTo>
                <a:lnTo>
                  <a:pt x="1104" y="672"/>
                </a:lnTo>
                <a:lnTo>
                  <a:pt x="1104" y="1008"/>
                </a:lnTo>
                <a:lnTo>
                  <a:pt x="1008" y="1008"/>
                </a:lnTo>
                <a:lnTo>
                  <a:pt x="1008" y="624"/>
                </a:lnTo>
                <a:lnTo>
                  <a:pt x="864" y="624"/>
                </a:lnTo>
                <a:lnTo>
                  <a:pt x="864" y="960"/>
                </a:lnTo>
                <a:lnTo>
                  <a:pt x="816" y="960"/>
                </a:lnTo>
                <a:lnTo>
                  <a:pt x="816" y="768"/>
                </a:lnTo>
                <a:lnTo>
                  <a:pt x="384" y="768"/>
                </a:lnTo>
                <a:lnTo>
                  <a:pt x="384" y="960"/>
                </a:lnTo>
                <a:lnTo>
                  <a:pt x="144" y="960"/>
                </a:lnTo>
                <a:lnTo>
                  <a:pt x="144" y="672"/>
                </a:lnTo>
                <a:lnTo>
                  <a:pt x="0" y="672"/>
                </a:lnTo>
                <a:lnTo>
                  <a:pt x="0" y="384"/>
                </a:lnTo>
                <a:lnTo>
                  <a:pt x="432" y="384"/>
                </a:lnTo>
                <a:lnTo>
                  <a:pt x="384" y="528"/>
                </a:lnTo>
                <a:lnTo>
                  <a:pt x="480" y="528"/>
                </a:lnTo>
                <a:lnTo>
                  <a:pt x="480" y="336"/>
                </a:lnTo>
                <a:lnTo>
                  <a:pt x="0" y="336"/>
                </a:ln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576" y="192"/>
                </a:lnTo>
                <a:lnTo>
                  <a:pt x="576" y="384"/>
                </a:lnTo>
                <a:lnTo>
                  <a:pt x="816" y="384"/>
                </a:lnTo>
                <a:lnTo>
                  <a:pt x="816" y="48"/>
                </a:lnTo>
                <a:lnTo>
                  <a:pt x="864" y="48"/>
                </a:lnTo>
                <a:lnTo>
                  <a:pt x="864" y="384"/>
                </a:lnTo>
                <a:lnTo>
                  <a:pt x="1008" y="384"/>
                </a:lnTo>
                <a:lnTo>
                  <a:pt x="1008" y="96"/>
                </a:lnTo>
                <a:lnTo>
                  <a:pt x="1056" y="96"/>
                </a:lnTo>
                <a:lnTo>
                  <a:pt x="1056" y="480"/>
                </a:lnTo>
                <a:lnTo>
                  <a:pt x="1200" y="480"/>
                </a:lnTo>
                <a:lnTo>
                  <a:pt x="1200" y="48"/>
                </a:lnTo>
                <a:lnTo>
                  <a:pt x="1296" y="48"/>
                </a:lnTo>
                <a:lnTo>
                  <a:pt x="1296" y="528"/>
                </a:lnTo>
                <a:lnTo>
                  <a:pt x="1536" y="528"/>
                </a:lnTo>
                <a:lnTo>
                  <a:pt x="1536" y="192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39520" y="4419360"/>
            <a:ext cx="1918080" cy="352800"/>
            <a:chOff x="1739520" y="4419360"/>
            <a:chExt cx="1918080" cy="352800"/>
          </a:xfrm>
        </p:grpSpPr>
        <p:sp>
          <p:nvSpPr>
            <p:cNvPr id="80" name=""/>
            <p:cNvSpPr/>
            <p:nvPr/>
          </p:nvSpPr>
          <p:spPr>
            <a:xfrm>
              <a:off x="1739520" y="4495680"/>
              <a:ext cx="14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ff0066"/>
                  </a:solidFill>
                  <a:latin typeface="Arial MT Black"/>
                </a:rPr>
                <a:t>Přestávka na kaf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200400" y="4419360"/>
              <a:ext cx="45720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4800" y="4952880"/>
            <a:ext cx="107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Náklady</a:t>
            </a: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Čas</a:t>
            </a: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12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31000" y="4952880"/>
            <a:ext cx="107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Náklady</a:t>
            </a: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6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Čas</a:t>
            </a: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199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is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800"/>
            <a:ext cx="83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Interpretace naivního muže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muže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50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ženy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650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Fundovaná žena znalá ekonomických ukazatelů však správně vyhodnotí situaci následovně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muže za minutu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4,16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MT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ženy za minutu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3,26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292640"/>
            <a:ext cx="832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Důsledek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Pokud by žena byla stejně marnivá jako muž utratila by za tu dobu celých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829 €.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Ušetřila tedy pěknou sumičku a může si tudíž zakoupit ještě pár bot, aby tímto způsobem ještě více ušetřila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3:10:16Z</dcterms:created>
  <dc:creator>Dr. Marc Röderer</dc:creator>
  <dc:description/>
  <dc:language>en-US</dc:language>
  <cp:lastModifiedBy>Štěpánka Vyskočilová</cp:lastModifiedBy>
  <dcterms:modified xsi:type="dcterms:W3CDTF">2004-01-28T13:18:53Z</dcterms:modified>
  <cp:revision>9</cp:revision>
  <dc:subject/>
  <dc:title>PowerPoint-Präsentation</dc:title>
</cp:coreProperties>
</file>