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ission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2A7-80D9-4C85-B27D-8695EFD5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EE6-65B5-4CB5-8E16-C4B8693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120-233D-4CA0-9EBD-43A13863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E25-9254-4A63-A926-0E670843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3E9-AD03-48A2-B68D-6474268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0A6-76E4-4B35-B18D-D73CD0C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EC5-74FC-4D35-A420-F86E4B4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EF2-8031-4C06-8972-D7D9B2D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BF9-1901-40B3-B469-F2FD8246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DB9-112E-4CFB-9673-BEBDEF61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C92-E1A6-4B40-A30F-B4DCBFFD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339-BBFA-411E-9C96-CB0D8CDA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8903-A02F-49C5-85A1-F5B35D57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ission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840" y="388800"/>
            <a:ext cx="56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99"/>
                </a:solidFill>
                <a:latin typeface="Arial MT Black"/>
              </a:rPr>
              <a:t>Zadání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„</a:t>
            </a:r>
            <a:r>
              <a:rPr b="0" lang="cs-CZ" sz="2400" spc="-1" strike="noStrike">
                <a:solidFill>
                  <a:srgbClr val="000099"/>
                </a:solidFill>
                <a:latin typeface="Arial MT Black"/>
              </a:rPr>
              <a:t>Jděte do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 H&amp;M </a:t>
            </a:r>
            <a:r>
              <a:rPr b="0" lang="cs-CZ" sz="2400" spc="-1" strike="noStrike">
                <a:solidFill>
                  <a:srgbClr val="000099"/>
                </a:solidFill>
                <a:latin typeface="Arial MT Black"/>
              </a:rPr>
              <a:t>a kupte jedny kalhoty</a:t>
            </a:r>
            <a:r>
              <a:rPr b="0" lang="de-DE" sz="2400" spc="-1" strike="noStrike">
                <a:solidFill>
                  <a:srgbClr val="000099"/>
                </a:solidFill>
                <a:latin typeface="Arial MT Black"/>
              </a:rPr>
              <a:t>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1905120"/>
            <a:ext cx="8153640" cy="4343400"/>
            <a:chOff x="609480" y="1905120"/>
            <a:chExt cx="8153640" cy="4343400"/>
          </a:xfrm>
        </p:grpSpPr>
        <p:sp>
          <p:nvSpPr>
            <p:cNvPr id="45" name=""/>
            <p:cNvSpPr/>
            <p:nvPr/>
          </p:nvSpPr>
          <p:spPr>
            <a:xfrm>
              <a:off x="1905120" y="2286000"/>
              <a:ext cx="5715000" cy="3124080"/>
            </a:xfrm>
            <a:custGeom>
              <a:avLst/>
              <a:gdLst/>
              <a:ahLst/>
              <a:rect l="l" t="t" r="r" b="b"/>
              <a:pathLst>
                <a:path w="3600" h="1968">
                  <a:moveTo>
                    <a:pt x="0" y="144"/>
                  </a:moveTo>
                  <a:lnTo>
                    <a:pt x="1296" y="0"/>
                  </a:lnTo>
                  <a:lnTo>
                    <a:pt x="2208" y="0"/>
                  </a:lnTo>
                  <a:lnTo>
                    <a:pt x="3600" y="336"/>
                  </a:lnTo>
                  <a:lnTo>
                    <a:pt x="3600" y="1056"/>
                  </a:lnTo>
                  <a:lnTo>
                    <a:pt x="2304" y="1056"/>
                  </a:lnTo>
                  <a:lnTo>
                    <a:pt x="2304" y="1968"/>
                  </a:lnTo>
                  <a:lnTo>
                    <a:pt x="1152" y="1968"/>
                  </a:lnTo>
                  <a:lnTo>
                    <a:pt x="1152" y="1056"/>
                  </a:lnTo>
                  <a:lnTo>
                    <a:pt x="0" y="105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190512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7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 MT Black"/>
                </a:rPr>
                <a:t>H&amp;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95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315200" y="213336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6934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6552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61722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5791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5409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6934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6552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61722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5791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5409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48640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48640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50532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350532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4952880"/>
              <a:ext cx="3429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074120" y="12636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 MT Black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6240" y="126360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66"/>
                </a:solidFill>
                <a:latin typeface="Arial MT Black"/>
              </a:rPr>
              <a:t>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600200"/>
            <a:ext cx="838080" cy="1447920"/>
          </a:xfrm>
          <a:custGeom>
            <a:avLst/>
            <a:gdLst/>
            <a:ahLst/>
            <a:rect l="l" t="t" r="r" b="b"/>
            <a:pathLst>
              <a:path w="528" h="912">
                <a:moveTo>
                  <a:pt x="528" y="0"/>
                </a:moveTo>
                <a:lnTo>
                  <a:pt x="528" y="912"/>
                </a:lnTo>
                <a:lnTo>
                  <a:pt x="0" y="912"/>
                </a:lnTo>
                <a:lnTo>
                  <a:pt x="0" y="72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1600200"/>
            <a:ext cx="5486400" cy="4495680"/>
          </a:xfrm>
          <a:custGeom>
            <a:avLst/>
            <a:gdLst/>
            <a:ahLst/>
            <a:rect l="l" t="t" r="r" b="b"/>
            <a:pathLst>
              <a:path w="3456" h="2832">
                <a:moveTo>
                  <a:pt x="1056" y="0"/>
                </a:moveTo>
                <a:lnTo>
                  <a:pt x="1056" y="912"/>
                </a:lnTo>
                <a:lnTo>
                  <a:pt x="1536" y="912"/>
                </a:lnTo>
                <a:lnTo>
                  <a:pt x="1536" y="528"/>
                </a:lnTo>
                <a:lnTo>
                  <a:pt x="1632" y="528"/>
                </a:lnTo>
                <a:lnTo>
                  <a:pt x="1632" y="864"/>
                </a:lnTo>
                <a:lnTo>
                  <a:pt x="1776" y="864"/>
                </a:lnTo>
                <a:lnTo>
                  <a:pt x="1776" y="672"/>
                </a:lnTo>
                <a:lnTo>
                  <a:pt x="1728" y="672"/>
                </a:lnTo>
                <a:lnTo>
                  <a:pt x="1728" y="528"/>
                </a:lnTo>
                <a:lnTo>
                  <a:pt x="1872" y="528"/>
                </a:lnTo>
                <a:lnTo>
                  <a:pt x="1872" y="816"/>
                </a:lnTo>
                <a:lnTo>
                  <a:pt x="2016" y="816"/>
                </a:lnTo>
                <a:lnTo>
                  <a:pt x="2016" y="720"/>
                </a:lnTo>
                <a:lnTo>
                  <a:pt x="2016" y="672"/>
                </a:lnTo>
                <a:lnTo>
                  <a:pt x="2112" y="672"/>
                </a:lnTo>
                <a:lnTo>
                  <a:pt x="2112" y="816"/>
                </a:lnTo>
                <a:lnTo>
                  <a:pt x="2208" y="816"/>
                </a:lnTo>
                <a:lnTo>
                  <a:pt x="2208" y="480"/>
                </a:lnTo>
                <a:lnTo>
                  <a:pt x="2352" y="480"/>
                </a:lnTo>
                <a:lnTo>
                  <a:pt x="2352" y="720"/>
                </a:lnTo>
                <a:lnTo>
                  <a:pt x="2304" y="720"/>
                </a:lnTo>
                <a:lnTo>
                  <a:pt x="2304" y="816"/>
                </a:lnTo>
                <a:lnTo>
                  <a:pt x="2496" y="816"/>
                </a:lnTo>
                <a:lnTo>
                  <a:pt x="2496" y="480"/>
                </a:lnTo>
                <a:lnTo>
                  <a:pt x="2544" y="480"/>
                </a:lnTo>
                <a:lnTo>
                  <a:pt x="2544" y="864"/>
                </a:lnTo>
                <a:lnTo>
                  <a:pt x="2736" y="864"/>
                </a:lnTo>
                <a:lnTo>
                  <a:pt x="2736" y="432"/>
                </a:lnTo>
                <a:lnTo>
                  <a:pt x="2832" y="432"/>
                </a:lnTo>
                <a:lnTo>
                  <a:pt x="2832" y="912"/>
                </a:lnTo>
                <a:lnTo>
                  <a:pt x="2880" y="912"/>
                </a:lnTo>
                <a:lnTo>
                  <a:pt x="2880" y="576"/>
                </a:lnTo>
                <a:lnTo>
                  <a:pt x="3168" y="576"/>
                </a:lnTo>
                <a:lnTo>
                  <a:pt x="3168" y="768"/>
                </a:lnTo>
                <a:lnTo>
                  <a:pt x="3312" y="768"/>
                </a:lnTo>
                <a:lnTo>
                  <a:pt x="3312" y="912"/>
                </a:lnTo>
                <a:lnTo>
                  <a:pt x="2976" y="912"/>
                </a:lnTo>
                <a:lnTo>
                  <a:pt x="2976" y="1056"/>
                </a:lnTo>
                <a:lnTo>
                  <a:pt x="3456" y="1056"/>
                </a:lnTo>
                <a:lnTo>
                  <a:pt x="3456" y="1728"/>
                </a:lnTo>
                <a:lnTo>
                  <a:pt x="3168" y="1728"/>
                </a:lnTo>
                <a:lnTo>
                  <a:pt x="3168" y="1488"/>
                </a:lnTo>
                <a:lnTo>
                  <a:pt x="3312" y="1488"/>
                </a:lnTo>
                <a:lnTo>
                  <a:pt x="3312" y="1296"/>
                </a:lnTo>
                <a:lnTo>
                  <a:pt x="3024" y="1248"/>
                </a:lnTo>
                <a:lnTo>
                  <a:pt x="3024" y="1536"/>
                </a:lnTo>
                <a:lnTo>
                  <a:pt x="2880" y="1536"/>
                </a:lnTo>
                <a:lnTo>
                  <a:pt x="2880" y="1248"/>
                </a:lnTo>
                <a:lnTo>
                  <a:pt x="2592" y="1248"/>
                </a:lnTo>
                <a:lnTo>
                  <a:pt x="2592" y="1536"/>
                </a:lnTo>
                <a:lnTo>
                  <a:pt x="2544" y="1536"/>
                </a:lnTo>
                <a:lnTo>
                  <a:pt x="2544" y="1200"/>
                </a:lnTo>
                <a:lnTo>
                  <a:pt x="2400" y="1200"/>
                </a:lnTo>
                <a:lnTo>
                  <a:pt x="2256" y="1008"/>
                </a:lnTo>
                <a:lnTo>
                  <a:pt x="2400" y="1008"/>
                </a:lnTo>
                <a:lnTo>
                  <a:pt x="2400" y="912"/>
                </a:lnTo>
                <a:lnTo>
                  <a:pt x="2208" y="912"/>
                </a:lnTo>
                <a:lnTo>
                  <a:pt x="2208" y="1536"/>
                </a:lnTo>
                <a:lnTo>
                  <a:pt x="2352" y="1536"/>
                </a:lnTo>
                <a:lnTo>
                  <a:pt x="2352" y="1584"/>
                </a:lnTo>
                <a:lnTo>
                  <a:pt x="2160" y="1584"/>
                </a:lnTo>
                <a:lnTo>
                  <a:pt x="2160" y="1200"/>
                </a:lnTo>
                <a:lnTo>
                  <a:pt x="2064" y="1248"/>
                </a:lnTo>
                <a:lnTo>
                  <a:pt x="2064" y="1488"/>
                </a:lnTo>
                <a:lnTo>
                  <a:pt x="2016" y="1488"/>
                </a:lnTo>
                <a:lnTo>
                  <a:pt x="2016" y="1152"/>
                </a:lnTo>
                <a:lnTo>
                  <a:pt x="1824" y="1152"/>
                </a:lnTo>
                <a:lnTo>
                  <a:pt x="1824" y="1584"/>
                </a:lnTo>
                <a:lnTo>
                  <a:pt x="1728" y="1392"/>
                </a:lnTo>
                <a:lnTo>
                  <a:pt x="1728" y="1008"/>
                </a:lnTo>
                <a:lnTo>
                  <a:pt x="1680" y="1008"/>
                </a:lnTo>
                <a:lnTo>
                  <a:pt x="1584" y="1152"/>
                </a:lnTo>
                <a:lnTo>
                  <a:pt x="1584" y="1440"/>
                </a:lnTo>
                <a:lnTo>
                  <a:pt x="1392" y="1440"/>
                </a:lnTo>
                <a:lnTo>
                  <a:pt x="1392" y="1728"/>
                </a:lnTo>
                <a:lnTo>
                  <a:pt x="1680" y="1728"/>
                </a:lnTo>
                <a:lnTo>
                  <a:pt x="1680" y="1824"/>
                </a:lnTo>
                <a:lnTo>
                  <a:pt x="1200" y="1824"/>
                </a:lnTo>
                <a:lnTo>
                  <a:pt x="1200" y="1872"/>
                </a:lnTo>
                <a:lnTo>
                  <a:pt x="1392" y="1920"/>
                </a:lnTo>
                <a:lnTo>
                  <a:pt x="1584" y="1920"/>
                </a:lnTo>
                <a:lnTo>
                  <a:pt x="1584" y="2016"/>
                </a:lnTo>
                <a:lnTo>
                  <a:pt x="1344" y="2016"/>
                </a:lnTo>
                <a:lnTo>
                  <a:pt x="1344" y="2208"/>
                </a:lnTo>
                <a:lnTo>
                  <a:pt x="1920" y="2208"/>
                </a:lnTo>
                <a:lnTo>
                  <a:pt x="1920" y="2784"/>
                </a:lnTo>
                <a:lnTo>
                  <a:pt x="1728" y="2784"/>
                </a:lnTo>
                <a:lnTo>
                  <a:pt x="1728" y="2352"/>
                </a:lnTo>
                <a:lnTo>
                  <a:pt x="1536" y="2352"/>
                </a:lnTo>
                <a:lnTo>
                  <a:pt x="1536" y="2736"/>
                </a:lnTo>
                <a:lnTo>
                  <a:pt x="1392" y="2736"/>
                </a:lnTo>
                <a:lnTo>
                  <a:pt x="1392" y="2352"/>
                </a:lnTo>
                <a:lnTo>
                  <a:pt x="1248" y="2352"/>
                </a:lnTo>
                <a:lnTo>
                  <a:pt x="1248" y="2832"/>
                </a:lnTo>
                <a:lnTo>
                  <a:pt x="1104" y="2832"/>
                </a:lnTo>
                <a:lnTo>
                  <a:pt x="1104" y="2256"/>
                </a:lnTo>
                <a:lnTo>
                  <a:pt x="960" y="2256"/>
                </a:lnTo>
                <a:lnTo>
                  <a:pt x="960" y="2736"/>
                </a:lnTo>
                <a:lnTo>
                  <a:pt x="816" y="2736"/>
                </a:lnTo>
                <a:lnTo>
                  <a:pt x="816" y="2208"/>
                </a:lnTo>
                <a:lnTo>
                  <a:pt x="624" y="2208"/>
                </a:lnTo>
                <a:lnTo>
                  <a:pt x="624" y="2832"/>
                </a:lnTo>
                <a:lnTo>
                  <a:pt x="432" y="2832"/>
                </a:lnTo>
                <a:lnTo>
                  <a:pt x="432" y="2544"/>
                </a:lnTo>
                <a:lnTo>
                  <a:pt x="336" y="2544"/>
                </a:lnTo>
                <a:lnTo>
                  <a:pt x="336" y="2784"/>
                </a:lnTo>
                <a:lnTo>
                  <a:pt x="192" y="2784"/>
                </a:lnTo>
                <a:cubicBezTo>
                  <a:pt x="206" y="2288"/>
                  <a:pt x="309" y="2448"/>
                  <a:pt x="147" y="2448"/>
                </a:cubicBezTo>
                <a:lnTo>
                  <a:pt x="96" y="2736"/>
                </a:lnTo>
                <a:lnTo>
                  <a:pt x="0" y="2736"/>
                </a:lnTo>
                <a:lnTo>
                  <a:pt x="0" y="2352"/>
                </a:lnTo>
                <a:lnTo>
                  <a:pt x="480" y="2352"/>
                </a:lnTo>
                <a:lnTo>
                  <a:pt x="480" y="2208"/>
                </a:lnTo>
                <a:lnTo>
                  <a:pt x="576" y="2208"/>
                </a:lnTo>
                <a:lnTo>
                  <a:pt x="576" y="2064"/>
                </a:lnTo>
                <a:lnTo>
                  <a:pt x="336" y="2064"/>
                </a:lnTo>
                <a:lnTo>
                  <a:pt x="336" y="1968"/>
                </a:lnTo>
                <a:lnTo>
                  <a:pt x="672" y="1968"/>
                </a:lnTo>
                <a:lnTo>
                  <a:pt x="672" y="1776"/>
                </a:lnTo>
                <a:lnTo>
                  <a:pt x="432" y="177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362320"/>
            <a:ext cx="3276360" cy="1981080"/>
          </a:xfrm>
          <a:custGeom>
            <a:avLst/>
            <a:gdLst/>
            <a:ahLst/>
            <a:rect l="l" t="t" r="r" b="b"/>
            <a:pathLst>
              <a:path w="2064" h="1248">
                <a:moveTo>
                  <a:pt x="1728" y="1248"/>
                </a:moveTo>
                <a:lnTo>
                  <a:pt x="2064" y="1248"/>
                </a:lnTo>
                <a:lnTo>
                  <a:pt x="2064" y="1008"/>
                </a:lnTo>
                <a:lnTo>
                  <a:pt x="1776" y="1008"/>
                </a:lnTo>
                <a:lnTo>
                  <a:pt x="1776" y="720"/>
                </a:lnTo>
                <a:lnTo>
                  <a:pt x="1488" y="720"/>
                </a:lnTo>
                <a:lnTo>
                  <a:pt x="1488" y="1056"/>
                </a:lnTo>
                <a:lnTo>
                  <a:pt x="1440" y="1056"/>
                </a:lnTo>
                <a:lnTo>
                  <a:pt x="1440" y="672"/>
                </a:lnTo>
                <a:lnTo>
                  <a:pt x="1296" y="672"/>
                </a:lnTo>
                <a:lnTo>
                  <a:pt x="1296" y="960"/>
                </a:lnTo>
                <a:lnTo>
                  <a:pt x="1200" y="960"/>
                </a:lnTo>
                <a:lnTo>
                  <a:pt x="1200" y="672"/>
                </a:lnTo>
                <a:lnTo>
                  <a:pt x="1104" y="672"/>
                </a:lnTo>
                <a:lnTo>
                  <a:pt x="1104" y="1008"/>
                </a:lnTo>
                <a:lnTo>
                  <a:pt x="1008" y="1008"/>
                </a:lnTo>
                <a:lnTo>
                  <a:pt x="1008" y="624"/>
                </a:lnTo>
                <a:lnTo>
                  <a:pt x="864" y="624"/>
                </a:lnTo>
                <a:lnTo>
                  <a:pt x="864" y="960"/>
                </a:lnTo>
                <a:lnTo>
                  <a:pt x="816" y="960"/>
                </a:lnTo>
                <a:lnTo>
                  <a:pt x="816" y="768"/>
                </a:lnTo>
                <a:lnTo>
                  <a:pt x="384" y="768"/>
                </a:lnTo>
                <a:lnTo>
                  <a:pt x="384" y="960"/>
                </a:lnTo>
                <a:lnTo>
                  <a:pt x="144" y="960"/>
                </a:lnTo>
                <a:lnTo>
                  <a:pt x="144" y="672"/>
                </a:lnTo>
                <a:lnTo>
                  <a:pt x="0" y="672"/>
                </a:lnTo>
                <a:lnTo>
                  <a:pt x="0" y="384"/>
                </a:lnTo>
                <a:lnTo>
                  <a:pt x="432" y="384"/>
                </a:lnTo>
                <a:lnTo>
                  <a:pt x="384" y="528"/>
                </a:lnTo>
                <a:lnTo>
                  <a:pt x="480" y="528"/>
                </a:lnTo>
                <a:lnTo>
                  <a:pt x="480" y="336"/>
                </a:lnTo>
                <a:lnTo>
                  <a:pt x="0" y="336"/>
                </a:lnTo>
                <a:lnTo>
                  <a:pt x="0" y="0"/>
                </a:lnTo>
                <a:lnTo>
                  <a:pt x="384" y="0"/>
                </a:lnTo>
                <a:lnTo>
                  <a:pt x="384" y="192"/>
                </a:lnTo>
                <a:lnTo>
                  <a:pt x="576" y="192"/>
                </a:lnTo>
                <a:lnTo>
                  <a:pt x="576" y="384"/>
                </a:lnTo>
                <a:lnTo>
                  <a:pt x="816" y="384"/>
                </a:lnTo>
                <a:lnTo>
                  <a:pt x="816" y="48"/>
                </a:lnTo>
                <a:lnTo>
                  <a:pt x="864" y="48"/>
                </a:lnTo>
                <a:lnTo>
                  <a:pt x="864" y="384"/>
                </a:lnTo>
                <a:lnTo>
                  <a:pt x="1008" y="384"/>
                </a:lnTo>
                <a:lnTo>
                  <a:pt x="1008" y="96"/>
                </a:lnTo>
                <a:lnTo>
                  <a:pt x="1056" y="96"/>
                </a:lnTo>
                <a:lnTo>
                  <a:pt x="1056" y="480"/>
                </a:lnTo>
                <a:lnTo>
                  <a:pt x="1200" y="480"/>
                </a:lnTo>
                <a:lnTo>
                  <a:pt x="1200" y="48"/>
                </a:lnTo>
                <a:lnTo>
                  <a:pt x="1296" y="48"/>
                </a:lnTo>
                <a:lnTo>
                  <a:pt x="1296" y="528"/>
                </a:lnTo>
                <a:lnTo>
                  <a:pt x="1536" y="528"/>
                </a:lnTo>
                <a:lnTo>
                  <a:pt x="1536" y="192"/>
                </a:ln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39520" y="4419360"/>
            <a:ext cx="1918080" cy="352800"/>
            <a:chOff x="1739520" y="4419360"/>
            <a:chExt cx="1918080" cy="352800"/>
          </a:xfrm>
        </p:grpSpPr>
        <p:sp>
          <p:nvSpPr>
            <p:cNvPr id="80" name=""/>
            <p:cNvSpPr/>
            <p:nvPr/>
          </p:nvSpPr>
          <p:spPr>
            <a:xfrm>
              <a:off x="1739520" y="4495680"/>
              <a:ext cx="14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ff0066"/>
                  </a:solidFill>
                  <a:latin typeface="Arial MT Black"/>
                </a:rPr>
                <a:t>Přestávka na kaf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200400" y="4419360"/>
              <a:ext cx="45720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34800" y="4952880"/>
            <a:ext cx="107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 MT Black"/>
              </a:rPr>
              <a:t>Náklady</a:t>
            </a: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 MT Black"/>
              </a:rPr>
              <a:t>Čas</a:t>
            </a: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12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31000" y="4952880"/>
            <a:ext cx="107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66"/>
                </a:solidFill>
                <a:latin typeface="Arial MT Black"/>
              </a:rPr>
              <a:t>Náklady</a:t>
            </a: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6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66"/>
                </a:solidFill>
                <a:latin typeface="Arial MT Black"/>
              </a:rPr>
              <a:t>Čas</a:t>
            </a: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66"/>
                </a:solidFill>
                <a:latin typeface="Arial MT Black"/>
              </a:rPr>
              <a:t>199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iss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800"/>
            <a:ext cx="832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Interpretace naivního muže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muže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50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ženy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650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Fundovaná žena znalá ekonomických ukazatelů však správně vyhodnotí situaci následovně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muže za minutu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4,16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MT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Náklady ženy za minutu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3,26 €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292640"/>
            <a:ext cx="832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Důsledek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Pokud by žena byla stejně marnivá jako muž utratila by za tu dobu celých 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829 €. </a:t>
            </a:r>
            <a:r>
              <a:rPr b="0" lang="cs-CZ" sz="2400" spc="-1" strike="noStrike">
                <a:solidFill>
                  <a:srgbClr val="0000ff"/>
                </a:solidFill>
                <a:latin typeface="Arial MT Black"/>
              </a:rPr>
              <a:t>Ušetřila tedy pěknou sumičku a může si tudíž zakoupit ještě pár bot, aby tímto způsobem ještě více ušetřila</a:t>
            </a:r>
            <a:r>
              <a:rPr b="0" lang="de-DE" sz="2400" spc="-1" strike="noStrike">
                <a:solidFill>
                  <a:srgbClr val="0000ff"/>
                </a:solidFill>
                <a:latin typeface="Arial MT Blac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3:10:16Z</dcterms:created>
  <dc:creator>Dr. Marc Röderer</dc:creator>
  <dc:description/>
  <dc:language>en-US</dc:language>
  <cp:lastModifiedBy>Štěpánka Vyskočilová</cp:lastModifiedBy>
  <dcterms:modified xsi:type="dcterms:W3CDTF">2004-01-28T13:18:53Z</dcterms:modified>
  <cp:revision>9</cp:revision>
  <dc:subject/>
  <dc:title>PowerPoint-Präsentation</dc:title>
</cp:coreProperties>
</file>