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51C-F4F4-4A50-ACBA-BE0C5F1B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1EA-29C4-466C-8E6B-95B46273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5B6-DB24-4362-8BD3-20D610CB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547-C847-4C87-88FA-908846E5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D73-9DBA-4DE2-A6DD-2EA31257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B74-FE1D-4312-96B9-0F4F643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36E-4624-4B97-B2EA-2B2DB4A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508-92E3-4C70-94EF-C84355B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F37-5E8D-472A-AE67-F910C5AE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336-DF11-45D3-A380-FB1782E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BA2-83F7-4707-99AE-406F575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607-7C34-4D06-9E1F-11C1234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0B43-6513-4F44-9134-8A1D4A1D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!!! POZOR !!!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točí Tě to a pořádně!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.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áš 1000 Kč. Přidej 4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teď ještě 3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yní 2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přidej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nakonec 10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olik Ti vyšlo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šlo Ti 5000?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e správná odpověď je 4100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ď si to spočítej v klidu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novu i s kalkulačkou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áš 1000 Kč. Přidej 4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teď ještě 3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yní 2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přidej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nakonec 10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4x1000+40+30+20+10=4100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ještě poslední pok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vy otec má 5 dcer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menují 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91628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773360"/>
            <a:ext cx="266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1. Ka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Ke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Kich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4. ??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5. K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7372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se jmenuje čtvrtá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ychle přemýšlej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79640" cy="46692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9923" h="21600">
                <a:moveTo>
                  <a:pt x="0" y="0"/>
                </a:moveTo>
                <a:lnTo>
                  <a:pt x="49923" y="0"/>
                </a:lnTo>
                <a:lnTo>
                  <a:pt x="49923" y="21600"/>
                </a:lnTo>
                <a:lnTo>
                  <a:pt x="0" y="21600"/>
                </a:lnTo>
                <a:close/>
              </a:path>
              <a:path fill="lightenLess" w="49923" h="21600">
                <a:moveTo>
                  <a:pt x="0" y="0"/>
                </a:moveTo>
                <a:lnTo>
                  <a:pt x="49923" y="0"/>
                </a:lnTo>
                <a:lnTo>
                  <a:pt x="48523" y="1400"/>
                </a:lnTo>
                <a:lnTo>
                  <a:pt x="1400" y="1400"/>
                </a:lnTo>
                <a:close/>
              </a:path>
              <a:path fill="darken" w="49923" h="21600">
                <a:moveTo>
                  <a:pt x="49923" y="0"/>
                </a:moveTo>
                <a:lnTo>
                  <a:pt x="49923" y="21600"/>
                </a:lnTo>
                <a:lnTo>
                  <a:pt x="48523" y="20200"/>
                </a:lnTo>
                <a:lnTo>
                  <a:pt x="48523" y="1400"/>
                </a:lnTo>
                <a:close/>
              </a:path>
              <a:path fill="darkenLess" w="49923" h="21600">
                <a:moveTo>
                  <a:pt x="49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23" y="20200"/>
                </a:lnTo>
                <a:close/>
              </a:path>
              <a:path fill="lighten" w="49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23" h="21600">
                <a:moveTo>
                  <a:pt x="17955" y="3794"/>
                </a:moveTo>
                <a:lnTo>
                  <a:pt x="31968" y="10800"/>
                </a:lnTo>
                <a:lnTo>
                  <a:pt x="179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VA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to jednoduché, ne?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čti si ještě jednou otázku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5877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šli tento mail svým známým.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ž nepošleš nic se Ti nestane.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vyhodí Tě z práce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e když ho pošleš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aspoň víc lidí bude vědět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že jim to dnes nějak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myslí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7812000" y="6021360"/>
            <a:ext cx="1152720" cy="609480"/>
          </a:xfrm>
          <a:custGeom>
            <a:avLst/>
            <a:gdLst>
              <a:gd name="textAreaLeft" fmla="*/ 39240 w 1152720"/>
              <a:gd name="textAreaRight" fmla="*/ 1113480 w 115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841" h="21600">
                <a:moveTo>
                  <a:pt x="0" y="0"/>
                </a:moveTo>
                <a:lnTo>
                  <a:pt x="40841" y="0"/>
                </a:lnTo>
                <a:lnTo>
                  <a:pt x="40841" y="21600"/>
                </a:lnTo>
                <a:lnTo>
                  <a:pt x="0" y="21600"/>
                </a:lnTo>
                <a:close/>
              </a:path>
              <a:path fill="lightenLess" w="40841" h="21600">
                <a:moveTo>
                  <a:pt x="0" y="0"/>
                </a:moveTo>
                <a:lnTo>
                  <a:pt x="40841" y="0"/>
                </a:lnTo>
                <a:lnTo>
                  <a:pt x="39441" y="1400"/>
                </a:lnTo>
                <a:lnTo>
                  <a:pt x="1400" y="1400"/>
                </a:lnTo>
                <a:close/>
              </a:path>
              <a:path fill="darken" w="40841" h="21600">
                <a:moveTo>
                  <a:pt x="40841" y="0"/>
                </a:moveTo>
                <a:lnTo>
                  <a:pt x="40841" y="21600"/>
                </a:lnTo>
                <a:lnTo>
                  <a:pt x="39441" y="20200"/>
                </a:lnTo>
                <a:lnTo>
                  <a:pt x="39441" y="1400"/>
                </a:lnTo>
                <a:close/>
              </a:path>
              <a:path fill="darkenLess" w="40841" h="21600">
                <a:moveTo>
                  <a:pt x="40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41" y="20200"/>
                </a:lnTo>
                <a:close/>
              </a:path>
              <a:path fill="lighten" w="40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41" h="21600">
                <a:moveTo>
                  <a:pt x="23919" y="10800"/>
                </a:moveTo>
                <a:lnTo>
                  <a:pt x="13414" y="17806"/>
                </a:lnTo>
                <a:lnTo>
                  <a:pt x="13414" y="3794"/>
                </a:lnTo>
                <a:close/>
              </a:path>
              <a:path fill="darken" w="40841" h="21600">
                <a:moveTo>
                  <a:pt x="25765" y="3794"/>
                </a:moveTo>
                <a:lnTo>
                  <a:pt x="25765" y="17806"/>
                </a:lnTo>
                <a:lnTo>
                  <a:pt x="27427" y="17806"/>
                </a:lnTo>
                <a:lnTo>
                  <a:pt x="2742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zkoušej si malý testík na „zpříjemnění“ dn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rozmýšlej příliš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tyto otázky je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třeba odpovídat hned!!!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dívejme se nakolik jsi chytrý(á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si připravený(á)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o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jde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účastníš se na závode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v běhu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dběhneš druhého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kolikáté pozici jsi potom skonči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Řekl(a) jsi, že na prvním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packal(a) jsi to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ž předběhneš druhého, tak přebereš jeho místo a ty budeš druhý(á)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deme na další otázku, ale nerozmýšlej dlouh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dběhneš posledního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kolikátém místě skončíš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kud tvoje odpověď zněla předposlední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si to zpackal(a) znovu.</a:t>
            </a:r>
            <a:br>
              <a:rPr sz="4000"/>
            </a:br>
            <a:br>
              <a:rPr sz="2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mýšlej!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můžeš předběhnout posledního ?</a:t>
            </a:r>
            <a:br>
              <a:rPr sz="4000"/>
            </a:br>
            <a:br>
              <a:rPr sz="2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kud jsi byl(a) za ním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on nemohl být poslední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neska Ti to moc nemyslí – co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K zkusíme to ještě jednou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matuj si: odpověz rychle!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kus toto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7:31:20Z</dcterms:created>
  <dc:creator>NP</dc:creator>
  <dc:description/>
  <dc:language>en-US</dc:language>
  <cp:lastModifiedBy>Karel</cp:lastModifiedBy>
  <dcterms:modified xsi:type="dcterms:W3CDTF">2006-01-04T21:33:06Z</dcterms:modified>
  <cp:revision>3</cp:revision>
  <dc:subject/>
  <dc:title>Vytočí Vás to a riadne .......</dc:title>
</cp:coreProperties>
</file>