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7274-6A34-437C-A4B5-EDE51F47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7863-7405-4935-A198-FDE58B60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CAFE-685A-45CD-B490-4BC203B2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1DCB-E7FE-405E-A2C8-FD1083CB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011-E365-47FC-83AF-10419478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E97E-9225-47B1-96FB-A0C7F8C7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6A71-1E43-4DF6-84FD-2B9DE9A6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840B-DFD2-4400-8A1E-7D502802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2801-37AC-4865-81E7-5B1A17D0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EE3F-4356-4176-AAF4-A958B578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B80D-E5EA-41BB-A5D4-6581E9A9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C85E-FCFF-4D91-9E74-639FE3AA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CB22-48A5-40C6-9058-51A7556BC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!!! POZOR !!!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ytočí Tě to a pořádně!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...........................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áš 1000 Kč. Přidej 40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 ještě 1000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 teď ještě 30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 ještě 1000,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yní 20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 přidej ještě 1000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 nakonec 10.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olik Ti vyšlo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yšlo Ti 5000?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le správná odpověď je 4100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eď si to spočítej v klidu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novu i s kalkulačkou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áš 1000 Kč. Přidej 40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 ještě 1000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 teď ještě 30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 ještě 1000,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yní 20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 přidej ještě 1000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 nakonec 10.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4x1000+40+30+20+10=4100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k ještě poslední poku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7885080" y="623736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Evy otec má 5 dcer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menují s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1916280"/>
            <a:ext cx="27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64000" y="1773360"/>
            <a:ext cx="2663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1. Kach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2. Kech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Kich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4. ???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5. Ku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5373720"/>
            <a:ext cx="705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ak se jmenuje čtvrtá?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Rychle přemýšlej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7885080" y="6165720"/>
            <a:ext cx="1079640" cy="46692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49923" h="21600">
                <a:moveTo>
                  <a:pt x="0" y="0"/>
                </a:moveTo>
                <a:lnTo>
                  <a:pt x="49923" y="0"/>
                </a:lnTo>
                <a:lnTo>
                  <a:pt x="49923" y="21600"/>
                </a:lnTo>
                <a:lnTo>
                  <a:pt x="0" y="21600"/>
                </a:lnTo>
                <a:close/>
              </a:path>
              <a:path fill="lightenLess" w="49923" h="21600">
                <a:moveTo>
                  <a:pt x="0" y="0"/>
                </a:moveTo>
                <a:lnTo>
                  <a:pt x="49923" y="0"/>
                </a:lnTo>
                <a:lnTo>
                  <a:pt x="48523" y="1400"/>
                </a:lnTo>
                <a:lnTo>
                  <a:pt x="1400" y="1400"/>
                </a:lnTo>
                <a:close/>
              </a:path>
              <a:path fill="darken" w="49923" h="21600">
                <a:moveTo>
                  <a:pt x="49923" y="0"/>
                </a:moveTo>
                <a:lnTo>
                  <a:pt x="49923" y="21600"/>
                </a:lnTo>
                <a:lnTo>
                  <a:pt x="48523" y="20200"/>
                </a:lnTo>
                <a:lnTo>
                  <a:pt x="48523" y="1400"/>
                </a:lnTo>
                <a:close/>
              </a:path>
              <a:path fill="darkenLess" w="49923" h="21600">
                <a:moveTo>
                  <a:pt x="499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23" y="20200"/>
                </a:lnTo>
                <a:close/>
              </a:path>
              <a:path fill="lighten" w="499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23" h="21600">
                <a:moveTo>
                  <a:pt x="17955" y="3794"/>
                </a:moveTo>
                <a:lnTo>
                  <a:pt x="31968" y="10800"/>
                </a:lnTo>
                <a:lnTo>
                  <a:pt x="179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EVA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e to jednoduché, ne?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ečti si ještě jednou otázku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250920" y="602136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10800"/>
                </a:moveTo>
                <a:lnTo>
                  <a:pt x="28568" y="3794"/>
                </a:lnTo>
                <a:lnTo>
                  <a:pt x="285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58920" y="587700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pě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ošli tento mail svým známým. 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dyž nepošleš nic se Ti nestane.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evyhodí Tě z práce.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le když ho pošleš,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k aspoň víc lidí bude vědět,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že jim to dnes nějak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emyslí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endshow"/>
          </p:cNvPr>
          <p:cNvSpPr/>
          <p:nvPr/>
        </p:nvSpPr>
        <p:spPr>
          <a:xfrm>
            <a:off x="7812000" y="6021360"/>
            <a:ext cx="1152720" cy="609480"/>
          </a:xfrm>
          <a:custGeom>
            <a:avLst/>
            <a:gdLst>
              <a:gd name="textAreaLeft" fmla="*/ 39240 w 1152720"/>
              <a:gd name="textAreaRight" fmla="*/ 1113480 w 1152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841" h="21600">
                <a:moveTo>
                  <a:pt x="0" y="0"/>
                </a:moveTo>
                <a:lnTo>
                  <a:pt x="40841" y="0"/>
                </a:lnTo>
                <a:lnTo>
                  <a:pt x="40841" y="21600"/>
                </a:lnTo>
                <a:lnTo>
                  <a:pt x="0" y="21600"/>
                </a:lnTo>
                <a:close/>
              </a:path>
              <a:path fill="lightenLess" w="40841" h="21600">
                <a:moveTo>
                  <a:pt x="0" y="0"/>
                </a:moveTo>
                <a:lnTo>
                  <a:pt x="40841" y="0"/>
                </a:lnTo>
                <a:lnTo>
                  <a:pt x="39441" y="1400"/>
                </a:lnTo>
                <a:lnTo>
                  <a:pt x="1400" y="1400"/>
                </a:lnTo>
                <a:close/>
              </a:path>
              <a:path fill="darken" w="40841" h="21600">
                <a:moveTo>
                  <a:pt x="40841" y="0"/>
                </a:moveTo>
                <a:lnTo>
                  <a:pt x="40841" y="21600"/>
                </a:lnTo>
                <a:lnTo>
                  <a:pt x="39441" y="20200"/>
                </a:lnTo>
                <a:lnTo>
                  <a:pt x="39441" y="1400"/>
                </a:lnTo>
                <a:close/>
              </a:path>
              <a:path fill="darkenLess" w="40841" h="21600">
                <a:moveTo>
                  <a:pt x="40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41" y="20200"/>
                </a:lnTo>
                <a:close/>
              </a:path>
              <a:path fill="lighten" w="40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41" h="21600">
                <a:moveTo>
                  <a:pt x="23919" y="10800"/>
                </a:moveTo>
                <a:lnTo>
                  <a:pt x="13414" y="17806"/>
                </a:lnTo>
                <a:lnTo>
                  <a:pt x="13414" y="3794"/>
                </a:lnTo>
                <a:close/>
              </a:path>
              <a:path fill="darken" w="40841" h="21600">
                <a:moveTo>
                  <a:pt x="25765" y="3794"/>
                </a:moveTo>
                <a:lnTo>
                  <a:pt x="25765" y="17806"/>
                </a:lnTo>
                <a:lnTo>
                  <a:pt x="27427" y="17806"/>
                </a:lnTo>
                <a:lnTo>
                  <a:pt x="2742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yzkoušej si malý testík na „zpříjemnění“ dne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erozmýšlej příliš.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a tyto otázky je,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třeba odpovídat hned!!!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odívejme se nakolik jsi chytrý(á)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si připravený(á)?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no?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k jdem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účastníš se na závodech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v běhu.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edběhneš druhého.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a kolikáté pozici jsi potom skončil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Řekl(a) jsi, že na prvním?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packal(a) jsi to.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dyž předběhneš druhého, tak přebereš jeho místo a ty budeš druhý(á).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deme na další otázku, ale nerozmýšlej dlouho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edběhneš posledního.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a kolikátém místě skončíš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okud tvoje odpověď zněla předposlední,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k si to zpackal(a) znovu.</a:t>
            </a:r>
            <a:br>
              <a:rPr sz="4000"/>
            </a:br>
            <a:br>
              <a:rPr sz="2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emýšlej!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ak můžeš předběhnout posledního ?</a:t>
            </a:r>
            <a:br>
              <a:rPr sz="4000"/>
            </a:br>
            <a:br>
              <a:rPr sz="2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okud jsi byl(a) za ním,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k on nemohl být poslední.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neska Ti to moc nemyslí – co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7885080" y="623736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OK zkusíme to ještě jednou.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amatuj si: odpověz rychle!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kus toto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7885080" y="6093000"/>
            <a:ext cx="1079640" cy="466560"/>
          </a:xfrm>
          <a:custGeom>
            <a:avLst/>
            <a:gdLst>
              <a:gd name="textAreaLeft" fmla="*/ 30240 w 1079640"/>
              <a:gd name="textAreaRight" fmla="*/ 1049400 w 107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9961" h="21600">
                <a:moveTo>
                  <a:pt x="0" y="0"/>
                </a:moveTo>
                <a:lnTo>
                  <a:pt x="49961" y="0"/>
                </a:lnTo>
                <a:lnTo>
                  <a:pt x="49961" y="21600"/>
                </a:lnTo>
                <a:lnTo>
                  <a:pt x="0" y="21600"/>
                </a:lnTo>
                <a:close/>
              </a:path>
              <a:path fill="lightenLess" w="49961" h="21600">
                <a:moveTo>
                  <a:pt x="0" y="0"/>
                </a:moveTo>
                <a:lnTo>
                  <a:pt x="49961" y="0"/>
                </a:lnTo>
                <a:lnTo>
                  <a:pt x="48561" y="1400"/>
                </a:lnTo>
                <a:lnTo>
                  <a:pt x="1400" y="1400"/>
                </a:lnTo>
                <a:close/>
              </a:path>
              <a:path fill="darken" w="49961" h="21600">
                <a:moveTo>
                  <a:pt x="49961" y="0"/>
                </a:moveTo>
                <a:lnTo>
                  <a:pt x="49961" y="21600"/>
                </a:lnTo>
                <a:lnTo>
                  <a:pt x="48561" y="20200"/>
                </a:lnTo>
                <a:lnTo>
                  <a:pt x="48561" y="1400"/>
                </a:lnTo>
                <a:close/>
              </a:path>
              <a:path fill="darkenLess" w="49961" h="21600">
                <a:moveTo>
                  <a:pt x="4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61" y="20200"/>
                </a:lnTo>
                <a:close/>
              </a:path>
              <a:path fill="lighten" w="4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61" h="21600">
                <a:moveTo>
                  <a:pt x="17974" y="3794"/>
                </a:moveTo>
                <a:lnTo>
                  <a:pt x="31987" y="10800"/>
                </a:lnTo>
                <a:lnTo>
                  <a:pt x="17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7:31:20Z</dcterms:created>
  <dc:creator>NP</dc:creator>
  <dc:description/>
  <dc:language>en-US</dc:language>
  <cp:lastModifiedBy>Karel</cp:lastModifiedBy>
  <dcterms:modified xsi:type="dcterms:W3CDTF">2006-01-04T21:33:06Z</dcterms:modified>
  <cp:revision>3</cp:revision>
  <dc:subject/>
  <dc:title>Vytočí Vás to a riadne .......</dc:title>
</cp:coreProperties>
</file>