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A56-18BC-4BDD-8AF8-9B5C20D7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85D-E675-4A27-B6F5-2951F1A7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539-BB7C-4DA6-9F59-DD9BB066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F60-89E2-495F-AE31-130C396F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006-31E5-4B3F-A195-7F044A94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E22-0892-4B38-8189-8276DA32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8D9-1186-44E7-A7C5-39275F71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D73-F499-44D2-8CBC-4BBAC35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AE7-FBA3-4E08-BDC2-FDA306FE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2F0-D133-4C85-B692-C70A7074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FBA-1C19-4AF0-8AFD-863CDF5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A25-90FF-4569-AF14-1455B986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A26-2D15-43B6-A278-AE232CF6D1E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2944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197000"/>
            <a:ext cx="273528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141720"/>
            <a:ext cx="72072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163640" y="3141720"/>
            <a:ext cx="57636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765000"/>
            <a:ext cx="1871640" cy="258480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38760" y="836640"/>
            <a:ext cx="1785600" cy="273672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492280"/>
            <a:ext cx="503280" cy="28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2492280"/>
            <a:ext cx="431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084360" y="4941720"/>
            <a:ext cx="7164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4508640"/>
            <a:ext cx="43200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56000" y="4508640"/>
            <a:ext cx="43164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4508640"/>
            <a:ext cx="863640" cy="504720"/>
          </a:xfrm>
          <a:custGeom>
            <a:avLst/>
            <a:gdLst/>
            <a:ahLst/>
            <a:rect l="l" t="t" r="r" b="b"/>
            <a:pathLst>
              <a:path w="544" h="318">
                <a:moveTo>
                  <a:pt x="0" y="0"/>
                </a:moveTo>
                <a:lnTo>
                  <a:pt x="181" y="45"/>
                </a:lnTo>
                <a:lnTo>
                  <a:pt x="317" y="45"/>
                </a:lnTo>
                <a:lnTo>
                  <a:pt x="544" y="0"/>
                </a:lnTo>
                <a:lnTo>
                  <a:pt x="272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1280" y="486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62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46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78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7856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656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4692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309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91280" y="5734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13399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5229360"/>
            <a:ext cx="362412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4473360" cy="518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00720" y="581040"/>
            <a:ext cx="3384360" cy="119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708360" y="1530360"/>
            <a:ext cx="4751280" cy="303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50920" y="189000"/>
            <a:ext cx="367956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LTERSKELTER"/>
              </a:rPr>
              <a:t>Jak se správně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LTERSKELTER"/>
              <a:ea typeface="HELTERSKELT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LTERSKELTER"/>
              </a:rPr>
              <a:t>kreslí pes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LTERSKELTER"/>
              <a:ea typeface="HELTERSKELTE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3:51:27Z</dcterms:created>
  <dc:creator>M.Larochelle</dc:creator>
  <dc:description/>
  <dc:language>en-US</dc:language>
  <cp:lastModifiedBy>PK</cp:lastModifiedBy>
  <dcterms:modified xsi:type="dcterms:W3CDTF">2005-03-31T13:27:08Z</dcterms:modified>
  <cp:revision>12</cp:revision>
  <dc:subject/>
  <dc:title>Présentation PowerPoint</dc:title>
</cp:coreProperties>
</file>