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A57-F587-4F92-93F9-9432A4EB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E4A-DB5F-4F1D-91C3-13E65523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F4E-862D-4602-A104-B1464440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1D0-72EF-4187-B929-1D1955EB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405-10E4-46E9-9FDC-295BAEA7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ACA-1B12-40C6-817A-32031ADC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660-6F63-431D-BB3C-81BD6554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D41-E77B-4C4C-ABCD-CF86C694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59E-E61E-4885-86E7-B94D3807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029-15C9-412E-9F5B-E302B29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A2D-DB93-4672-AC5B-50BC5BF9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BFC-F6DF-4BED-8135-4F9E7553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69D3-1A80-4B5D-A1B9-C66BDF01704E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00720" y="1989000"/>
            <a:ext cx="1511280" cy="1081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29440" y="1989000"/>
            <a:ext cx="1511280" cy="1081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197000"/>
            <a:ext cx="2735280" cy="13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3141720"/>
            <a:ext cx="720720" cy="2087640"/>
          </a:xfrm>
          <a:custGeom>
            <a:avLst/>
            <a:gdLst/>
            <a:ahLst/>
            <a:rect l="l" t="t" r="r" b="b"/>
            <a:pathLst>
              <a:path w="408" h="1315">
                <a:moveTo>
                  <a:pt x="408" y="0"/>
                </a:moveTo>
                <a:lnTo>
                  <a:pt x="408" y="226"/>
                </a:lnTo>
                <a:lnTo>
                  <a:pt x="363" y="408"/>
                </a:lnTo>
                <a:lnTo>
                  <a:pt x="272" y="544"/>
                </a:lnTo>
                <a:lnTo>
                  <a:pt x="136" y="680"/>
                </a:lnTo>
                <a:lnTo>
                  <a:pt x="45" y="861"/>
                </a:lnTo>
                <a:lnTo>
                  <a:pt x="0" y="1088"/>
                </a:lnTo>
                <a:lnTo>
                  <a:pt x="0" y="1315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163640" y="3141720"/>
            <a:ext cx="576360" cy="2087640"/>
          </a:xfrm>
          <a:custGeom>
            <a:avLst/>
            <a:gdLst/>
            <a:ahLst/>
            <a:rect l="l" t="t" r="r" b="b"/>
            <a:pathLst>
              <a:path w="408" h="1315">
                <a:moveTo>
                  <a:pt x="408" y="0"/>
                </a:moveTo>
                <a:lnTo>
                  <a:pt x="408" y="226"/>
                </a:lnTo>
                <a:lnTo>
                  <a:pt x="363" y="408"/>
                </a:lnTo>
                <a:lnTo>
                  <a:pt x="272" y="544"/>
                </a:lnTo>
                <a:lnTo>
                  <a:pt x="136" y="680"/>
                </a:lnTo>
                <a:lnTo>
                  <a:pt x="45" y="861"/>
                </a:lnTo>
                <a:lnTo>
                  <a:pt x="0" y="1088"/>
                </a:lnTo>
                <a:lnTo>
                  <a:pt x="0" y="1315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765000"/>
            <a:ext cx="1871640" cy="2584800"/>
          </a:xfrm>
          <a:custGeom>
            <a:avLst/>
            <a:gdLst/>
            <a:ahLst/>
            <a:rect l="l" t="t" r="r" b="b"/>
            <a:pathLst>
              <a:path w="1179" h="1628">
                <a:moveTo>
                  <a:pt x="0" y="0"/>
                </a:moveTo>
                <a:cubicBezTo>
                  <a:pt x="14" y="44"/>
                  <a:pt x="21" y="95"/>
                  <a:pt x="55" y="128"/>
                </a:cubicBezTo>
                <a:cubicBezTo>
                  <a:pt x="67" y="164"/>
                  <a:pt x="72" y="180"/>
                  <a:pt x="109" y="192"/>
                </a:cubicBezTo>
                <a:cubicBezTo>
                  <a:pt x="134" y="215"/>
                  <a:pt x="162" y="250"/>
                  <a:pt x="192" y="265"/>
                </a:cubicBezTo>
                <a:cubicBezTo>
                  <a:pt x="203" y="270"/>
                  <a:pt x="216" y="270"/>
                  <a:pt x="228" y="274"/>
                </a:cubicBezTo>
                <a:cubicBezTo>
                  <a:pt x="283" y="291"/>
                  <a:pt x="338" y="311"/>
                  <a:pt x="393" y="329"/>
                </a:cubicBezTo>
                <a:cubicBezTo>
                  <a:pt x="435" y="342"/>
                  <a:pt x="478" y="347"/>
                  <a:pt x="521" y="357"/>
                </a:cubicBezTo>
                <a:cubicBezTo>
                  <a:pt x="540" y="361"/>
                  <a:pt x="576" y="375"/>
                  <a:pt x="576" y="375"/>
                </a:cubicBezTo>
                <a:cubicBezTo>
                  <a:pt x="603" y="393"/>
                  <a:pt x="629" y="397"/>
                  <a:pt x="658" y="412"/>
                </a:cubicBezTo>
                <a:cubicBezTo>
                  <a:pt x="720" y="444"/>
                  <a:pt x="651" y="419"/>
                  <a:pt x="713" y="439"/>
                </a:cubicBezTo>
                <a:cubicBezTo>
                  <a:pt x="744" y="459"/>
                  <a:pt x="752" y="478"/>
                  <a:pt x="777" y="503"/>
                </a:cubicBezTo>
                <a:cubicBezTo>
                  <a:pt x="796" y="522"/>
                  <a:pt x="827" y="543"/>
                  <a:pt x="850" y="558"/>
                </a:cubicBezTo>
                <a:cubicBezTo>
                  <a:pt x="864" y="600"/>
                  <a:pt x="866" y="629"/>
                  <a:pt x="896" y="658"/>
                </a:cubicBezTo>
                <a:cubicBezTo>
                  <a:pt x="927" y="752"/>
                  <a:pt x="948" y="848"/>
                  <a:pt x="978" y="942"/>
                </a:cubicBezTo>
                <a:cubicBezTo>
                  <a:pt x="988" y="1087"/>
                  <a:pt x="1015" y="1216"/>
                  <a:pt x="1060" y="1353"/>
                </a:cubicBezTo>
                <a:cubicBezTo>
                  <a:pt x="1077" y="1406"/>
                  <a:pt x="1086" y="1468"/>
                  <a:pt x="1124" y="1509"/>
                </a:cubicBezTo>
                <a:cubicBezTo>
                  <a:pt x="1127" y="1518"/>
                  <a:pt x="1128" y="1528"/>
                  <a:pt x="1133" y="1536"/>
                </a:cubicBezTo>
                <a:cubicBezTo>
                  <a:pt x="1138" y="1543"/>
                  <a:pt x="1148" y="1546"/>
                  <a:pt x="1152" y="1554"/>
                </a:cubicBezTo>
                <a:cubicBezTo>
                  <a:pt x="1164" y="1577"/>
                  <a:pt x="1168" y="1604"/>
                  <a:pt x="1179" y="162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938760" y="836640"/>
            <a:ext cx="1785600" cy="2736720"/>
          </a:xfrm>
          <a:custGeom>
            <a:avLst/>
            <a:gdLst/>
            <a:ahLst/>
            <a:rect l="l" t="t" r="r" b="b"/>
            <a:pathLst>
              <a:path w="1179" h="1628">
                <a:moveTo>
                  <a:pt x="0" y="0"/>
                </a:moveTo>
                <a:cubicBezTo>
                  <a:pt x="14" y="44"/>
                  <a:pt x="21" y="95"/>
                  <a:pt x="55" y="128"/>
                </a:cubicBezTo>
                <a:cubicBezTo>
                  <a:pt x="67" y="164"/>
                  <a:pt x="72" y="180"/>
                  <a:pt x="109" y="192"/>
                </a:cubicBezTo>
                <a:cubicBezTo>
                  <a:pt x="134" y="215"/>
                  <a:pt x="162" y="250"/>
                  <a:pt x="192" y="265"/>
                </a:cubicBezTo>
                <a:cubicBezTo>
                  <a:pt x="203" y="270"/>
                  <a:pt x="216" y="270"/>
                  <a:pt x="228" y="274"/>
                </a:cubicBezTo>
                <a:cubicBezTo>
                  <a:pt x="283" y="291"/>
                  <a:pt x="338" y="311"/>
                  <a:pt x="393" y="329"/>
                </a:cubicBezTo>
                <a:cubicBezTo>
                  <a:pt x="435" y="342"/>
                  <a:pt x="478" y="347"/>
                  <a:pt x="521" y="357"/>
                </a:cubicBezTo>
                <a:cubicBezTo>
                  <a:pt x="540" y="361"/>
                  <a:pt x="576" y="375"/>
                  <a:pt x="576" y="375"/>
                </a:cubicBezTo>
                <a:cubicBezTo>
                  <a:pt x="603" y="393"/>
                  <a:pt x="629" y="397"/>
                  <a:pt x="658" y="412"/>
                </a:cubicBezTo>
                <a:cubicBezTo>
                  <a:pt x="720" y="444"/>
                  <a:pt x="651" y="419"/>
                  <a:pt x="713" y="439"/>
                </a:cubicBezTo>
                <a:cubicBezTo>
                  <a:pt x="744" y="459"/>
                  <a:pt x="752" y="478"/>
                  <a:pt x="777" y="503"/>
                </a:cubicBezTo>
                <a:cubicBezTo>
                  <a:pt x="796" y="522"/>
                  <a:pt x="827" y="543"/>
                  <a:pt x="850" y="558"/>
                </a:cubicBezTo>
                <a:cubicBezTo>
                  <a:pt x="864" y="600"/>
                  <a:pt x="866" y="629"/>
                  <a:pt x="896" y="658"/>
                </a:cubicBezTo>
                <a:cubicBezTo>
                  <a:pt x="927" y="752"/>
                  <a:pt x="948" y="848"/>
                  <a:pt x="978" y="942"/>
                </a:cubicBezTo>
                <a:cubicBezTo>
                  <a:pt x="988" y="1087"/>
                  <a:pt x="1015" y="1216"/>
                  <a:pt x="1060" y="1353"/>
                </a:cubicBezTo>
                <a:cubicBezTo>
                  <a:pt x="1077" y="1406"/>
                  <a:pt x="1086" y="1468"/>
                  <a:pt x="1124" y="1509"/>
                </a:cubicBezTo>
                <a:cubicBezTo>
                  <a:pt x="1127" y="1518"/>
                  <a:pt x="1128" y="1528"/>
                  <a:pt x="1133" y="1536"/>
                </a:cubicBezTo>
                <a:cubicBezTo>
                  <a:pt x="1138" y="1543"/>
                  <a:pt x="1148" y="1546"/>
                  <a:pt x="1152" y="1554"/>
                </a:cubicBezTo>
                <a:cubicBezTo>
                  <a:pt x="1164" y="1577"/>
                  <a:pt x="1168" y="1604"/>
                  <a:pt x="1179" y="162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2492280"/>
            <a:ext cx="503280" cy="28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2492280"/>
            <a:ext cx="4316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084360" y="4941720"/>
            <a:ext cx="7164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4508640"/>
            <a:ext cx="432000" cy="43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156000" y="4508640"/>
            <a:ext cx="431640" cy="43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4508640"/>
            <a:ext cx="863640" cy="504720"/>
          </a:xfrm>
          <a:custGeom>
            <a:avLst/>
            <a:gdLst/>
            <a:ahLst/>
            <a:rect l="l" t="t" r="r" b="b"/>
            <a:pathLst>
              <a:path w="544" h="318">
                <a:moveTo>
                  <a:pt x="0" y="0"/>
                </a:moveTo>
                <a:lnTo>
                  <a:pt x="181" y="45"/>
                </a:lnTo>
                <a:lnTo>
                  <a:pt x="317" y="45"/>
                </a:lnTo>
                <a:lnTo>
                  <a:pt x="544" y="0"/>
                </a:lnTo>
                <a:lnTo>
                  <a:pt x="272" y="3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91280" y="486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8620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46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78560" y="508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9272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7856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803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70560" y="508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86560" y="5373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46920" y="5373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51640" y="5373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309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91280" y="5734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35640" y="4292640"/>
            <a:ext cx="133992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5229360"/>
            <a:ext cx="3624120" cy="162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4473360" cy="518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00720" y="581040"/>
            <a:ext cx="3384360" cy="1192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708360" y="1530360"/>
            <a:ext cx="4751280" cy="3030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50920" y="189000"/>
            <a:ext cx="367956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LTERSKELTER"/>
              </a:rPr>
              <a:t>Jak se správně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LTERSKELTER"/>
              <a:ea typeface="HELTERSKELT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LTERSKELTER"/>
              </a:rPr>
              <a:t>kreslí pes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LTERSKELTER"/>
              <a:ea typeface="HELTERSKELTER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03:51:27Z</dcterms:created>
  <dc:creator>M.Larochelle</dc:creator>
  <dc:description/>
  <dc:language>en-US</dc:language>
  <cp:lastModifiedBy>PK</cp:lastModifiedBy>
  <dcterms:modified xsi:type="dcterms:W3CDTF">2005-03-31T13:27:08Z</dcterms:modified>
  <cp:revision>12</cp:revision>
  <dc:subject/>
  <dc:title>Présentation PowerPoint</dc:title>
</cp:coreProperties>
</file>