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E2F-0EFC-461D-8128-ED6702F7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728-D54C-48ED-8AB0-5246ABDE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BB0-5EF5-4B11-9177-BB60EFFC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320-E728-4DE2-9855-E8A02C2F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126C-D60F-4545-B5F9-F7CE3AF3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411C-A345-4815-A2D7-50B55532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925F-9DF8-4D85-848C-39787B0A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1AF9-D2BE-406B-BFA1-8E120556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A0ED-4D67-48DE-A043-9BED41E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792D-BC51-439C-A9EB-3733F004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D31B-9AFE-425D-B2A3-28B3B575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C3B-5CC3-46CA-ABAA-FB960B14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A172-F5DF-4817-9D50-56051E0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0F53-FBB8-468C-BFFD-91F1846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4816-DC9B-43DF-B4F8-51BE5C66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6B0D-50D8-4220-823F-B705CBB6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D6F3-DFCB-4524-B72B-764ACA4B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4BE-5DE9-4668-9415-0D98A25C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99D-F09D-4B7B-A459-7359173E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19D-F654-42F6-ABCF-752E695A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FD6-2A0B-4FE2-9F0F-4155B8BC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39B-D699-4E1A-B291-D64D2562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779-3141-40DF-9150-9974A3F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A5B-3A3A-4BD4-B22A-70BC458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889E-F63B-4DC7-8AD5-6AE39E393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CCB3-B908-4E4F-9318-1523D2438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55400" y="68724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Pení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1981080"/>
            <a:ext cx="66294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Tak vidíš, že peníze nejsou všechn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Říkám Ti toto všechno proto, neboť jsi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2057400"/>
            <a:ext cx="6629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ůj nejlepší přítel. A jako Tvůj přítel Ti chci pomoct od Tvé bolesti a utrp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roto mi pošli všechny svoje peníze a já budu trpět za Teb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Věř mi, lepšího přítele, než jsem já, nenajdeš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19810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koupit dům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domo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koupit postel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spánek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98108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Ti koupit knihu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vzdělání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98108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koupit hodiny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čas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2057400"/>
            <a:ext cx="5257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Ti koupit pozici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respekt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6680" y="198108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Ti koupit léky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zdraví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198108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Ti koupit krev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život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198108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Ti koupit sex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lásku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2:41:55Z</dcterms:created>
  <dc:creator>Ilas</dc:creator>
  <dc:description/>
  <dc:language>en-US</dc:language>
  <cp:lastModifiedBy>Matěj Ladislav</cp:lastModifiedBy>
  <dcterms:modified xsi:type="dcterms:W3CDTF">2003-07-01T12:00:13Z</dcterms:modified>
  <cp:revision>2</cp:revision>
  <dc:subject/>
  <dc:title>Prezentace aplikace PowerPoint</dc:title>
</cp:coreProperties>
</file>