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E180-315C-484F-80D0-EC252A78B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6169-01BB-4AF2-B3EE-61326B9F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60BC-6022-45C8-8A7B-F2F187D6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60C5-6017-4D7A-B9B5-ECC0F032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ED5F-60B0-4E20-B086-A0B65298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8BCF-31AC-4BA8-9073-76C7FA7D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968F-F505-4E2F-8BA6-1C4D4641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0378-B07C-4BDC-BC14-3C0CCF01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B9AD-B2DC-4FD8-9F47-584A1449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2DA6-F7B3-4D2F-A413-F7702D42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FE98-D32A-4775-A767-BD32B82A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3B74-7817-4AB7-B648-E33D5DF5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311D-CEAE-4092-8391-EFF349F9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5642-0122-4D1E-837B-B39D0C9D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CAE9-699A-4F1C-B455-CFC012DD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4793-FB03-460D-AA74-EFF44DBC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346F-E24E-445B-93F7-FA5EC613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4647-00C5-4594-80D2-A9167E96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E83-EB61-4710-8598-98EA57D3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89F-67A9-4495-8C53-5904C600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95F1-F57A-4A8F-A063-25B967B4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0704-872D-4FE4-8C7C-DF17CFEF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362D-AB78-4FB4-A510-5F35CA93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8639-3BED-48D4-977D-4C2CA975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30A9-A87A-4D76-B43B-2D99B7CB3D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249E-8A52-48C0-A014-866E4ADD8B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55400" y="68724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Peníz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66680" y="1981080"/>
            <a:ext cx="66294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Tak vidíš, že peníze nejsou všechn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Říkám Ti toto všechno proto, neboť jsi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19320" y="2057400"/>
            <a:ext cx="6629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můj nejlepší přítel. A jako Tvůj přítel Ti chci pomoct od Tvé bolesti a utrpe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Proto mi pošli všechny svoje peníze a já budu trpět za Teb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Věř mi, lepšího přítele, než jsem já, nenajdeš 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66680" y="198108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Mohou koupit dům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ale ne domo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2057400"/>
            <a:ext cx="4572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Mohou koupit postel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ale ne spánek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66680" y="1981080"/>
            <a:ext cx="5105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Mohou Ti koupit knihu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ale ne vzdělání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1981080"/>
            <a:ext cx="4572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Mohou koupit hodiny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ale ne čas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2057400"/>
            <a:ext cx="5257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Mohou Ti koupit pozici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ale ne respekt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66680" y="1981080"/>
            <a:ext cx="4572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Mohou Ti koupit léky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ale ne zdraví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66680" y="1981080"/>
            <a:ext cx="4572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Mohou Ti koupit krev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ale ne život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1981080"/>
            <a:ext cx="4572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Mohou Ti koupit sex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ale ne lásku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2:41:55Z</dcterms:created>
  <dc:creator>Ilas</dc:creator>
  <dc:description/>
  <dc:language>en-US</dc:language>
  <cp:lastModifiedBy>Matěj Ladislav</cp:lastModifiedBy>
  <dcterms:modified xsi:type="dcterms:W3CDTF">2003-07-01T12:00:13Z</dcterms:modified>
  <cp:revision>2</cp:revision>
  <dc:subject/>
  <dc:title>Prezentace aplikace PowerPoint</dc:title>
</cp:coreProperties>
</file>