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jpeg" ContentType="image/jpeg"/>
  <Override PartName="/ppt/media/image8.wmf" ContentType="image/x-wmf"/>
  <Override PartName="/ppt/media/image13.png" ContentType="image/png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380-7E8E-44A7-9AEB-B37A0D8D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90E-0A7B-44B1-8A76-1D4EB7C6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DBF-FA3B-41E3-8630-30B1DE38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5EF-5669-41EC-A8D4-294480DF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D04-0B4D-4196-94BB-3F298149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3DA-DF43-4EC3-AD10-68C055C9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49BE-200F-4FA9-BB39-9F1056F8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9BF-5F65-4CCE-A266-A915B50A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A81-AAB2-4D67-8799-6080760A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96C-D9AC-4F71-86E3-DF755C0F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24C-A6F0-4807-963F-265B1FBE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190-B909-474A-B4BF-B489C19C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F84A-36EC-4451-97B0-8CFFCC9F4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14800" y="1295280"/>
            <a:ext cx="4892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Comic Sans MS"/>
              </a:rPr>
              <a:t>Následující hra je složena z</a:t>
            </a:r>
            <a:r>
              <a:rPr b="1" lang="fr-FR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 4 </a:t>
            </a:r>
            <a:r>
              <a:rPr b="1" lang="cs-CZ" sz="2400" spc="-1" strike="noStrike">
                <a:solidFill>
                  <a:srgbClr val="0000ff"/>
                </a:solidFill>
                <a:latin typeface="Comic Sans MS"/>
              </a:rPr>
              <a:t>otázek, které nám dovolí vás kvalifikovat jako </a:t>
            </a:r>
            <a:r>
              <a:rPr b="1" lang="fr-FR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"profesion</a:t>
            </a:r>
            <a:r>
              <a:rPr b="1" lang="cs-CZ" sz="2400" spc="-1" strike="noStrike">
                <a:solidFill>
                  <a:srgbClr val="0000ff"/>
                </a:solidFill>
                <a:latin typeface="Comic Sans MS"/>
              </a:rPr>
              <a:t>á</a:t>
            </a:r>
            <a:r>
              <a:rPr b="1" lang="fr-FR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</a:t>
            </a:r>
            <a:r>
              <a:rPr b="1" lang="cs-CZ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1" lang="fr-FR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Comic Sans MS"/>
              </a:rPr>
              <a:t>Otázky nejsou příliš obtížné</a:t>
            </a:r>
            <a:r>
              <a:rPr b="1" lang="fr-FR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, </a:t>
            </a:r>
            <a:r>
              <a:rPr b="1" lang="cs-CZ" sz="2400" spc="-1" strike="noStrike">
                <a:solidFill>
                  <a:srgbClr val="0000ff"/>
                </a:solidFill>
                <a:latin typeface="Comic Sans MS"/>
              </a:rPr>
              <a:t>proto se nesnažte podvádět tím, že se podíváte na výsledek</a:t>
            </a:r>
            <a:r>
              <a:rPr b="1" lang="fr-FR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7680" y="1332000"/>
            <a:ext cx="329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Správná odpověď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Přeplavete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Proč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Protože všichni krokodýli jsou na konferenci pořádané Lvím králem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Tento test ukáže, nakolik se dokážete poučit ze svých předchozích chyb</a:t>
            </a:r>
            <a:r>
              <a:rPr b="1" lang="fr-FR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e07184_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587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1557360"/>
            <a:ext cx="716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Podle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Andersen Consulting Worldwide,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průměrně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90%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dotázaných profesionálů pohořelo při všech otázkách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Proti tomu děti z mateřských škol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měly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více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správných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odpověd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Ze zprávy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Anderson Consulting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tedy vyplývá, že většina profesionálů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nedosahuje IQ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čtyřletého dítěte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32600" y="2203560"/>
            <a:ext cx="5854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Arial"/>
              </a:rPr>
              <a:t>Rozešlete tento tes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Arial"/>
              </a:rPr>
              <a:t>abyste frustrova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Arial"/>
              </a:rPr>
              <a:t>všechny vaše přátele </a:t>
            </a:r>
            <a:r>
              <a:rPr b="1" lang="cs-CZ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827360" y="2913120"/>
          <a:ext cx="5487840" cy="103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7360" y="2913120"/>
                    <a:ext cx="5487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064880" y="1219320"/>
            <a:ext cx="48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Otázka č.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Jak umístíte žirafu do ledničky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?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h01559_" descr=""/>
          <p:cNvPicPr/>
          <p:nvPr/>
        </p:nvPicPr>
        <p:blipFill>
          <a:blip r:embed="rId4"/>
          <a:stretch/>
        </p:blipFill>
        <p:spPr>
          <a:xfrm>
            <a:off x="6978600" y="4038480"/>
            <a:ext cx="2019240" cy="2667240"/>
          </a:xfrm>
          <a:prstGeom prst="rect">
            <a:avLst/>
          </a:prstGeom>
          <a:ln w="0">
            <a:noFill/>
          </a:ln>
        </p:spPr>
      </p:pic>
      <p:pic>
        <p:nvPicPr>
          <p:cNvPr id="46" name="j0180318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1143000" y="2286000"/>
            <a:ext cx="2695680" cy="4267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91120" y="4800600"/>
            <a:ext cx="2514600" cy="106668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5760" y="1222200"/>
          <a:ext cx="4421160" cy="3170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1222200"/>
                    <a:ext cx="4421160" cy="31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57200" y="1374840"/>
            <a:ext cx="34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Správná odpověď je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Otevřete ledničku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,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 umístíte žirafu dovnitř a zavřete ledničku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Tato otázka testuje vaši schopnost komplikovat jednoduché věci</a:t>
            </a:r>
            <a:r>
              <a:rPr b="1" lang="fr-FR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j0208174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852720" cy="5300640"/>
          </a:xfrm>
          <a:prstGeom prst="rect">
            <a:avLst/>
          </a:prstGeom>
          <a:ln w="0">
            <a:noFill/>
          </a:ln>
        </p:spPr>
      </p:pic>
      <p:pic>
        <p:nvPicPr>
          <p:cNvPr id="52" name="j0138247" descr=""/>
          <p:cNvPicPr/>
          <p:nvPr/>
        </p:nvPicPr>
        <p:blipFill>
          <a:blip r:embed="rId5"/>
          <a:stretch/>
        </p:blipFill>
        <p:spPr>
          <a:xfrm>
            <a:off x="5943600" y="4114800"/>
            <a:ext cx="9478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1160" y="1335240"/>
            <a:ext cx="47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Otázka č. 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Jak umístíte slona do lednič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hh01559_" descr=""/>
          <p:cNvPicPr/>
          <p:nvPr/>
        </p:nvPicPr>
        <p:blipFill>
          <a:blip r:embed="rId2"/>
          <a:stretch/>
        </p:blipFill>
        <p:spPr>
          <a:xfrm>
            <a:off x="6978600" y="4038480"/>
            <a:ext cx="2019240" cy="2667240"/>
          </a:xfrm>
          <a:prstGeom prst="rect">
            <a:avLst/>
          </a:prstGeom>
          <a:ln w="0">
            <a:noFill/>
          </a:ln>
        </p:spPr>
      </p:pic>
      <p:pic>
        <p:nvPicPr>
          <p:cNvPr id="55" name="j0180374" descr=""/>
          <p:cNvPicPr/>
          <p:nvPr/>
        </p:nvPicPr>
        <p:blipFill>
          <a:blip r:embed="rId3"/>
          <a:stretch/>
        </p:blipFill>
        <p:spPr>
          <a:xfrm>
            <a:off x="914400" y="2438280"/>
            <a:ext cx="230976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86200" y="4648320"/>
            <a:ext cx="2514600" cy="106668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827360" y="552600"/>
          <a:ext cx="5487840" cy="575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7360" y="552600"/>
                    <a:ext cx="548784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89080" y="1101600"/>
            <a:ext cx="4206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Arial"/>
              </a:rPr>
              <a:t>Špatná odpověď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: </a:t>
            </a:r>
            <a:r>
              <a:rPr b="1" lang="cs-CZ" sz="2400" spc="-1" strike="noStrike">
                <a:solidFill>
                  <a:srgbClr val="ff3300"/>
                </a:solidFill>
                <a:latin typeface="Arial"/>
              </a:rPr>
              <a:t>otevřete ledničku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ff3300"/>
                </a:solidFill>
                <a:latin typeface="Arial"/>
              </a:rPr>
              <a:t>umístíte do ní slona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ff3300"/>
                </a:solidFill>
                <a:latin typeface="Arial"/>
              </a:rPr>
              <a:t>a zavřete ledničku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Správná odpověď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Otevřete ledničku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vyjmete žirafu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,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 umístíte do ní slona a zavřete ledničku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Tato otázka umožňuje otestovat vaši schopnost uvědomit si souvislosti vašich předchozích činností</a:t>
            </a:r>
            <a:r>
              <a:rPr b="1" lang="fr-FR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j0208174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852720" cy="5300640"/>
          </a:xfrm>
          <a:prstGeom prst="rect">
            <a:avLst/>
          </a:prstGeom>
          <a:ln w="0">
            <a:noFill/>
          </a:ln>
        </p:spPr>
      </p:pic>
      <p:pic>
        <p:nvPicPr>
          <p:cNvPr id="61" name="j0138247" descr=""/>
          <p:cNvPicPr/>
          <p:nvPr/>
        </p:nvPicPr>
        <p:blipFill>
          <a:blip r:embed="rId5"/>
          <a:stretch/>
        </p:blipFill>
        <p:spPr>
          <a:xfrm>
            <a:off x="8001000" y="1219320"/>
            <a:ext cx="947880" cy="1077840"/>
          </a:xfrm>
          <a:prstGeom prst="rect">
            <a:avLst/>
          </a:prstGeom>
          <a:ln w="0">
            <a:noFill/>
          </a:ln>
        </p:spPr>
      </p:pic>
      <p:pic>
        <p:nvPicPr>
          <p:cNvPr id="62" name="an02568_" descr=""/>
          <p:cNvPicPr/>
          <p:nvPr/>
        </p:nvPicPr>
        <p:blipFill>
          <a:blip r:embed="rId6"/>
          <a:stretch/>
        </p:blipFill>
        <p:spPr>
          <a:xfrm>
            <a:off x="5791320" y="4191120"/>
            <a:ext cx="15285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833480" y="2332080"/>
          <a:ext cx="5473800" cy="218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3480" y="2332080"/>
                    <a:ext cx="54738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762120" y="2438280"/>
            <a:ext cx="329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Otázka č.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Lví král pořádá v džungli konferenci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Zúčastní se jí všechna zvířata kromě jednoho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Kterého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lip058" descr=""/>
          <p:cNvPicPr/>
          <p:nvPr/>
        </p:nvPicPr>
        <p:blipFill>
          <a:blip r:embed="rId4"/>
          <a:stretch/>
        </p:blipFill>
        <p:spPr>
          <a:xfrm>
            <a:off x="4376880" y="1219320"/>
            <a:ext cx="457992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j0208174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852720" cy="5300640"/>
          </a:xfrm>
          <a:prstGeom prst="rect">
            <a:avLst/>
          </a:prstGeom>
          <a:ln w="0">
            <a:noFill/>
          </a:ln>
        </p:spPr>
      </p:pic>
      <p:pic>
        <p:nvPicPr>
          <p:cNvPr id="68" name="an02568_" descr=""/>
          <p:cNvPicPr/>
          <p:nvPr/>
        </p:nvPicPr>
        <p:blipFill>
          <a:blip r:embed="rId3"/>
          <a:stretch/>
        </p:blipFill>
        <p:spPr>
          <a:xfrm>
            <a:off x="5791320" y="4191120"/>
            <a:ext cx="1528560" cy="977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1360" y="1332000"/>
            <a:ext cx="382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Správná odpověď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Slon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Slon je v ledničce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Vzpomínáte si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Tato otázka umožňuje testovat</a:t>
            </a:r>
            <a:r>
              <a:rPr b="1" lang="fr-FR" sz="2400" spc="-1" strike="noStrike">
                <a:solidFill>
                  <a:srgbClr val="cc99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vaši</a:t>
            </a:r>
            <a:r>
              <a:rPr b="1" lang="fr-FR" sz="2400" spc="-1" strike="noStrike">
                <a:solidFill>
                  <a:srgbClr val="cc99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paměť</a:t>
            </a:r>
            <a:r>
              <a:rPr b="1" lang="en-GB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49480" y="1876320"/>
            <a:ext cx="488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OK,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i když jste neuspěli při předchozích třech otázkách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nyní máte šanci se polepšit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j0173960" descr=""/>
          <p:cNvPicPr/>
          <p:nvPr/>
        </p:nvPicPr>
        <p:blipFill>
          <a:blip r:embed="rId2"/>
          <a:stretch/>
        </p:blipFill>
        <p:spPr>
          <a:xfrm>
            <a:off x="0" y="0"/>
            <a:ext cx="84582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89080" y="11826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Otázka č.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Musíte překročit řeku, o které víte, že je obydlena krokodýly. Jak to uděláte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?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h01433k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8458200" cy="3657600"/>
          </a:xfrm>
          <a:prstGeom prst="rect">
            <a:avLst/>
          </a:prstGeom>
          <a:ln w="0">
            <a:noFill/>
          </a:ln>
        </p:spPr>
      </p:pic>
      <p:pic>
        <p:nvPicPr>
          <p:cNvPr id="74" name="an00195_" descr=""/>
          <p:cNvPicPr/>
          <p:nvPr/>
        </p:nvPicPr>
        <p:blipFill>
          <a:blip r:embed="rId3"/>
          <a:stretch/>
        </p:blipFill>
        <p:spPr>
          <a:xfrm>
            <a:off x="6019920" y="5867280"/>
            <a:ext cx="2361960" cy="660600"/>
          </a:xfrm>
          <a:prstGeom prst="rect">
            <a:avLst/>
          </a:prstGeom>
          <a:ln w="0">
            <a:noFill/>
          </a:ln>
        </p:spPr>
      </p:pic>
      <p:pic>
        <p:nvPicPr>
          <p:cNvPr id="75" name="an00195_" descr=""/>
          <p:cNvPicPr/>
          <p:nvPr/>
        </p:nvPicPr>
        <p:blipFill>
          <a:blip r:embed="rId4"/>
          <a:stretch/>
        </p:blipFill>
        <p:spPr>
          <a:xfrm>
            <a:off x="4876920" y="5486400"/>
            <a:ext cx="1676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08:59:00Z</dcterms:created>
  <dc:creator>Anderson Consulting</dc:creator>
  <dc:description/>
  <dc:language>en-US</dc:language>
  <cp:lastModifiedBy>Radek Táborský</cp:lastModifiedBy>
  <dcterms:modified xsi:type="dcterms:W3CDTF">2003-02-14T09:13:43Z</dcterms:modified>
  <cp:revision>10</cp:revision>
  <dc:subject>4 Question Test</dc:subject>
  <dc:title>Are you a Professional?</dc:title>
</cp:coreProperties>
</file>