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CF4-2C1F-4158-9497-B475397E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453-2834-4317-8C55-C6F14B50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F968-6BE2-45F2-8BF2-9AE77F18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464E-EF2A-4440-B620-BE203323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B90-9CAF-4E78-A51D-0585FF39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62F1-FF27-4DD3-95E2-815056B7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953A-2736-4016-857E-630A8E75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16D-4209-41FA-A7CB-31C554B5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03B-88FF-4C75-A27A-9929F9FB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5F3-3DB3-4B81-A458-E924BBD3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9955-87E0-420B-96BB-284FA7A4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0AB-2ECB-4D4C-85A3-D0F95302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8792-B2F8-4DFF-92FD-D7F142348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47624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360" y="1268280"/>
            <a:ext cx="29084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762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35004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76360" y="765000"/>
            <a:ext cx="635004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71500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47628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476280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57020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304812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3500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500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84360" y="907920"/>
            <a:ext cx="476244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24000" y="981000"/>
            <a:ext cx="476244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8360" y="836640"/>
            <a:ext cx="4762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27032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3048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197000"/>
            <a:ext cx="45734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ravca</cp:lastModifiedBy>
  <dcterms:modified xsi:type="dcterms:W3CDTF">2003-08-01T09:14:24Z</dcterms:modified>
  <cp:revision>1</cp:revision>
  <dc:subject/>
  <dc:title>Bez nadpisu</dc:title>
</cp:coreProperties>
</file>