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ADA-6152-421B-BF49-C09C852E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A42-3AFA-4E0E-B186-DA709AB1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FED-3B6A-46B5-9FDD-E92CE6CE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33B-0361-4FA3-BF04-85DF6D01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8AA-3D06-4547-92A9-6A9F3C50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2C4-9F91-4793-A7F7-58101C86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B49-2F64-4E79-895D-BC25B6F9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9D4-D391-4E81-854F-F8663774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B92-3513-4AD6-8F4A-A4D1CAFF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399-B66B-4770-9D84-99D018B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CA9-71B2-4675-8C2B-5C96BF0A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D75-47EB-4719-BD83-494D46B7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FDC6-0585-458B-B74D-CF0A0C563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47624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360" y="1268280"/>
            <a:ext cx="2908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762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63500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7150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7628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76280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57020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04812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3500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500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476244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476244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762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27032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048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5734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ravca</cp:lastModifiedBy>
  <dcterms:modified xsi:type="dcterms:W3CDTF">2003-08-01T09:14:24Z</dcterms:modified>
  <cp:revision>1</cp:revision>
  <dc:subject/>
  <dc:title>Bez nadpisu</dc:title>
</cp:coreProperties>
</file>